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dt" idx="38"/>
          </p:nvPr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move the slide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39"/>
          </p:nvPr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 type="sldNum" idx="40"/>
          </p:nvPr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E4C57B5F-7393-4E9C-BACA-29B2B2C8770E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671FC13-5AAF-481C-AA9A-1B2321AC37A4}" type="slidenum"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3440" cy="3833640"/>
          </a:xfrm>
          <a:prstGeom prst="rect">
            <a:avLst/>
          </a:prstGeom>
          <a:ln w="0">
            <a:noFill/>
          </a:ln>
        </p:spPr>
      </p:sp>
      <p:sp>
        <p:nvSpPr>
          <p:cNvPr id="733" name="Espace réservé de la date 5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ED9EA172-3E49-476A-87F5-A66539971676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84808A4-AADB-4DD6-B02F-8971CDAF63D9}" type="slidenum">
              <a:rPr b="0" lang="fr-FR" sz="13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3E8DDE2-88B0-4319-8BC1-DCBAAF293854}" type="slidenum">
              <a:rPr b="0" lang="fr-FR" sz="13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470F6E29-ADC9-4245-B4BC-8BC4FE9BE794}" type="slidenum"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9BFA8E4-A3A7-450A-8A3F-92A269348FC2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406440" y="5075280"/>
            <a:ext cx="649584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95ED1E5-B2AE-4A9F-863F-302D242D90EF}" type="slidenum">
              <a:rPr b="0" lang="fr-FR" sz="13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720F01B-C3FF-4CA7-8D02-9EC55E6D88A3}" type="slidenum">
              <a:rPr b="0" lang="fr-FR" sz="13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9BB2951-F201-4455-9A98-E57347CA8A5B}" type="slidenum">
              <a:rPr b="0" lang="fr-FR" sz="13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32D202B-80F1-4AB5-92A5-E395657981C7}" type="slidenum">
              <a:rPr b="0" lang="fr-FR" sz="13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6"/>
          <p:cNvSpPr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  <a:ea typeface="Arial"/>
              </a:rPr>
              <a:t>G.Payen, Conseil Economique et Social, Paris, 2 mai 2007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45A0ED6E-2334-42B6-ACD4-3F93AC05B2FC}" type="slidenum">
              <a:rPr b="0" lang="en-GB" sz="13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4"/>
          <p:cNvSpPr/>
          <p:nvPr/>
        </p:nvSpPr>
        <p:spPr>
          <a:xfrm>
            <a:off x="939960" y="5118120"/>
            <a:ext cx="5516280" cy="48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Espace réservé de la date 6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6"/>
          <p:cNvSpPr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  <a:ea typeface="Arial"/>
              </a:rPr>
              <a:t>G.Payen, Conseil Economique et Social, Paris, 2 mai 2007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CE81887-04AD-45DA-8C78-994E4B0C64A1}" type="slidenum">
              <a:rPr b="0" lang="en-GB" sz="13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Espace réservé de la date 5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FEA0B3AB-3BC3-4222-BBC5-0028EE628DD1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CBA16A76-3FE7-4CC3-852E-0BAFE3968B12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6DD06637-C6DD-44A6-800F-BB7C2400D49A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8629AD43-FE27-459C-91D1-0C1042710B3B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D6F868E0-61C6-4048-B73B-848353BBC808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0138F467-8E58-44A1-8A6A-6B87093975FF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6AE0C20B-A5C7-4EC1-BA5A-32AB37C924CE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B98451D1-51EF-4087-8C20-4D985E2C010A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6"/>
          <p:cNvSpPr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  <a:ea typeface="Arial"/>
              </a:rPr>
              <a:t>G.Payen, Conseil Economique et Social, Paris, 2 mai 2007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D905DB3E-2C6E-4006-894B-B0EFCD45172A}" type="slidenum">
              <a:rPr b="0" lang="en-GB" sz="13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4"/>
          <p:cNvSpPr/>
          <p:nvPr/>
        </p:nvSpPr>
        <p:spPr>
          <a:xfrm>
            <a:off x="939960" y="5118120"/>
            <a:ext cx="5516280" cy="48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Espace réservé de la date 6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6"/>
          <p:cNvSpPr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  <a:ea typeface="Arial"/>
              </a:rPr>
              <a:t>G.Payen, Conseil Economique et Social, Paris, 2 mai 2007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1CC5020-A263-4BEC-9463-02AB2701FFD8}" type="slidenum">
              <a:rPr b="0" lang="en-GB" sz="13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4"/>
          <p:cNvSpPr/>
          <p:nvPr/>
        </p:nvSpPr>
        <p:spPr>
          <a:xfrm>
            <a:off x="939960" y="5118120"/>
            <a:ext cx="5516280" cy="48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Espace réservé de la date 6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AC0A4943-2438-4073-BDC6-5F14629C2DB3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6"/>
          <p:cNvSpPr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G.Payen, Conseil Economique et Social, Paris, 2 mai 2007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7D6089A-2598-419C-B2BD-B068192E1E91}" type="slidenum"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4"/>
          <p:cNvSpPr/>
          <p:nvPr/>
        </p:nvSpPr>
        <p:spPr>
          <a:xfrm>
            <a:off x="716040" y="4875120"/>
            <a:ext cx="5516640" cy="48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Espace réservé de la date 6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13F7-60D1-4CF1-8603-9F206E6D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D123-DE43-4893-BFC0-36A564C9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84D3A-8132-41DF-99EF-FA912147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3AAA2-EECD-4DC0-AE4D-E2DA6FED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5F27A-3D57-4AB7-9767-D74A81B5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67968-C19E-4828-8CE2-DAD04A58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EC310-AD32-4EBC-A34E-FFB54FF9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BE864-3927-4210-8DB9-9ABE7810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4733B2-CFE8-4246-8E3F-4CBAE657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A5422-B887-4036-9A0F-28D1CF594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D5652-87D7-4201-8AEF-735600A09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3F526-31A7-4CB2-9A09-41B56CD8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BD16-0115-494D-8E42-8B650CB5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DD4726-2D13-419B-8CA0-BDAF09B6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76ED0-B726-4222-B362-FAED659D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5B25D-D24B-433F-AB76-3ABCC263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60080-7218-475D-A28E-4E220FE7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148EE-3BB7-4928-ACC6-E99A1898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D9340-55F7-4CDC-B09C-2754D516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30097-AA5C-4C24-B8B9-FB160429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982AD-52E7-4C11-A8A4-39E51F31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CFC5B-0F86-4009-8D44-EF43D40A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9CC9F-9A6F-4AEF-AAE0-714BCD3D7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3020-0C4A-4EAF-ACA0-88C3DE5A3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F77F9-5497-4D3F-9CCF-1F34AA4AE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C4115-2D11-4416-A18C-B0CA86B9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4F908-2202-4130-8E2D-4DDD85E0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5D959-6ECE-4E70-9341-C01D24EF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58750-94FA-4C08-A1A9-9CE5A3C9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F5B51-2E93-4105-A20A-7381B61C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82844-5F3B-4A2D-9A44-B154B272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85DAE-06FC-4B04-A426-90E8A411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288EA-0B3D-4B86-AA8B-61EA42DA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88982-3EA6-4D5C-8A1B-FACEEF9B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BC03-8496-45E0-9646-C1D2A536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9C87C-4FF4-49FA-8792-A7F723AA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1E8E7-5796-4757-BD05-202E34D8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56060-F1BA-47C1-9F45-06816813A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ED2021-426A-45E4-A5E5-C031B388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AFBFD-A8F0-4162-9857-29A2F382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83B97-AC59-4CAA-92F7-1A3E0CDB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7CE45-AE6E-4EDD-9110-79A618A2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14D41-9CE0-4E82-B0A4-544810FA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573C78-3525-4030-ACB6-7927C3EC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72372-99D2-4C2A-B38B-65043F09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9520-D91F-49B1-92E7-5078BEE5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AE689-F7CE-4F54-BD02-BF4C4764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AB812-8711-4759-A0E8-9BAB9996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6452A6-6A61-44EE-AFDE-D1F9C44D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58BEE-FBD9-481C-B7FA-2102833A2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08F02-D1F2-4C60-A1F7-E18C8BDF9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3CADA69-8634-4545-A8A1-82E7F437B50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B599380-FF3B-4449-AFEB-8EBEE5A6C54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C84A4FC-3629-4FC6-AD89-698D92651CD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A913F0D-D2C0-4B32-8EF9-21A2ADF6172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D7C6222-ED3C-4641-89E9-0F991906C4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64CB-7FDD-4F1C-86DA-A2F87252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B917ADE-D751-437A-AF12-3E51CED2006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234E834-B6BE-4891-AC9E-76AEF3D1387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532B399-F1C8-4071-8478-CDFEB8239D1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870EEE8-E30B-451F-82C3-A6F9C85AB5F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95140FC-C73D-4705-ACF8-11EA84EC233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398CD0C-2C84-4A22-A9E4-0017719E940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009F848-8AFD-4E4F-B6DD-B86A145639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2B97-C1C1-47E4-9DF9-98522975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ACDC-FEF1-4B97-B958-03B8CF79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BAC0-DB85-454F-A512-79B88674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817F-3FFF-4224-A78E-EF00D0B8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C8DA-782C-4568-A8ED-A3FBC317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7DE6-181D-4983-BC35-36C3CFC2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6C62-098C-4BB9-9541-3828F8EA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C87D-76F0-49EB-B9DC-7DC0F65A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940C-6D39-46D0-840A-8FD542A5D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4393-60D6-4DB2-B1A8-05C02124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38A7F-CE10-4074-8939-96F591D3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325E2-DD28-406C-8B46-4A6C5CE8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AC335-CBC2-4600-94E6-6DB0CA86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37298-E80C-4CCA-ADA0-112D870E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DDAFA-F5BA-4A18-A97B-EB1C7B20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102C-8023-40C5-9167-D5F8C94A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8F3B8-5755-466C-88B0-EB5701F7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ABE13-BAB5-4CD5-AABF-B4FCC597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FB8CB-46CE-4314-A5F1-A4C7E2C8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3122E-FF2E-4DB8-8A8A-423ED6D1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603BD-DC3D-4E26-B51E-9737E65F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493D9-6CC8-4160-98EF-3FD63829E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C247D-C916-4118-9B07-1692ECC51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40427-D2EE-4E85-8D16-8E42948A2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43304-6249-4635-8640-6627875D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E2150-E7D1-48E8-B19B-9AD3ABAE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C310-8BFC-46A4-B9A0-83A112AA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13DCA-A2F2-4A69-AFF9-81C474A2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40537-911B-42E9-B5F6-8BC605E2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E175C-DE93-4928-86D5-8A851A43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9FE60-D310-44E7-9865-A79B48C4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B0F0F-9AD9-49D2-A9E2-088E74C8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92E7D-A700-4B33-87AB-AF0AE8E8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869E4-F7BE-43E7-BA90-E7CD9C21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1C91A-5629-4ABE-99C5-1F1482F5B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04003-07E2-4E67-B1A8-A65852DB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5385D-99A0-458A-BEF6-32A4CABE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BBFA-7AC5-44A1-8E40-612F1A2D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7695D-CA9E-4DCA-9676-1C14FE71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88F7C-8F6D-4006-9BE6-EF750284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2C2D8-293F-473C-B949-E50E079E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AB655-7264-4FFC-95C0-038161C7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62F7F-0DCE-4021-993E-2A1A3430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11044-B83E-4128-8726-AB86F1C2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EAE56-0F96-40F9-AF68-FC53AF1E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121B6-4EEA-465C-86E5-B7A7C42A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CA497-BA7C-484E-A099-5CC3794C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1CA1F-8C4A-4E1A-9455-E482EF74E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4AFD-5469-4291-9ECB-E9E8471C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2AE7C-F4F4-46C0-8AAF-6466440B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C3E35-B727-48F4-A84E-0EB0D28C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86178-3236-4B86-8465-7221EC4B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195A4-C2B6-4596-B3DF-CD12E5CB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5A816-BD30-4760-9A9C-6A021BD1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567ED-0DF2-4C07-AF74-A8B46146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9FAE2-DE23-4281-BB22-BD6DDA5C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A15D8-6714-42DA-81D8-65DA6CCB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09D6A-5CFE-4A82-A840-C2F42903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D3F2E-E564-4847-8BD0-32E83219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0A83-54F0-4292-8B48-DF789693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3ABF0-C085-4D0D-962D-7E8BA8AE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3EE92-11B2-4E2D-BAF1-898279B0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FD3E0-D146-4894-9D75-4BE3AE5D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539AD-C945-4883-8DBE-A94D9314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0542A-DC9F-4002-A4D2-D7CD9EDC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2AF4C-C075-4640-9214-F9B25F1B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890FF-78F1-4C13-B5AB-FC71B397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E7EE2-7D8A-4517-ABBA-1E65D0BB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2AD84-408C-46E5-A920-174220C8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17087-97D0-4DF4-AD1B-8244D7DD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55B1-492B-4F84-B198-E8834615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ECD97-5F55-44FD-8A91-5C295EF8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0C28F-DF08-40AF-A759-C34E5C3C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3F569-2489-4F99-9248-99A5EA4E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10E5F-1467-4087-BA8C-4628D61A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5E4CD-3091-4974-B245-A95EE41B1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7CE08-DA13-4985-A78E-BBB07F2C9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50D85-8ABB-4B7D-AB3B-96530411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B427A-C453-44CB-A0EB-7FAD896F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9FDEC-6B81-493A-BBC8-46285BF9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26250-EFE1-4D60-8F86-2ED09251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3E9B-72D3-49A9-A27C-B513A7EF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2EF65-2A3F-4A97-B3DD-206C88FA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6B0AC-3B45-48B1-A2CC-C8F9591E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1C90C-D001-42E9-B51C-73BB5EFC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E6756-3A32-4F60-ADCA-84BD244C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54CB8-AA44-4E39-9B83-6AFC0E7D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7F10A-7D8B-496C-AF85-89AB631A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23E14-C239-47E9-8206-FEA386E90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58C67E-FF23-4AAF-A3DF-2D49F997D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7C38E-BA7A-4D9B-9107-9DCFFDA4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BB9C9-F3BF-414C-B6A6-18618BDF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G.Payen   </a:t>
            </a:r>
            <a:fld id="{A6484275-53F9-430B-97F9-41E60B8833DC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7514-6AB0-439A-90DE-66274461AADC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0425-E0D7-4E53-A412-1F78C13A4DEE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9E7F-2FA3-4F13-945D-3A3ACB120418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37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32E8-80B0-4A4A-9916-65AE178E4D5A}" type="slidenum">
              <a:rPr b="0" lang="pt-B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F3E5-D266-407A-8AD1-85273010F5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857480" y="6071760"/>
            <a:ext cx="2895480" cy="785880"/>
          </a:xfrm>
          <a:prstGeom prst="rect">
            <a:avLst/>
          </a:prstGeom>
          <a:solidFill>
            <a:srgbClr val="f9dba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215040"/>
            <a:ext cx="1905120" cy="457200"/>
          </a:xfrm>
          <a:prstGeom prst="rect">
            <a:avLst/>
          </a:prstGeom>
          <a:solidFill>
            <a:srgbClr val="f9dbab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G.Payen    </a:t>
            </a:r>
            <a:fld id="{2264B985-64D4-4E0D-AED0-D6F1E8643670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2F58-E975-44BB-808F-E7A1A2EBD7F9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A6AA-F65E-48FF-BEC6-106E3CF3D8DE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F7DF-5EEC-4072-8057-FBAE46ADB4C5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900D-D721-48DB-8884-DACC1A78B047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1C37-B4A3-4116-9031-10C1E7A67C22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008F-4F49-48D3-BC7E-62EA8A54723C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14240"/>
            <a:ext cx="7490160" cy="257040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spcBef>
                <a:spcPts val="1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radeGothic"/>
              </a:rPr>
              <a:t>Assurer le droit à l’eau potable et à l’assainissement 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TradeGothic"/>
              </a:rPr>
              <a:t>pour la moitié urbaine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TradeGothic"/>
              </a:rPr>
              <a:t>de la population mondiale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178920" y="6286320"/>
            <a:ext cx="65358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radeGothic"/>
              </a:rPr>
              <a:t>Paris, Réseau Projection, 19 janvier 2012</a:t>
            </a:r>
            <a:endParaRPr b="0" lang="en-US" sz="20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108000" y="3911760"/>
            <a:ext cx="903600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Tahoma"/>
              </a:rPr>
              <a:t>Gérard PAY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Conseiller pour l’Eau et l’Assainissement du Secrétaire Général des Nations Unies (UNSGAB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Président d’AquaFed, la fédération internationale des opérateurs privés de services d’ea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radeGothic"/>
              </a:rPr>
              <a:t>Variations mondiales de 2000 à fin 2008</a:t>
            </a:r>
            <a:endParaRPr b="0" lang="en-US" sz="36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91" name="Espace réservé du numéro de diapositive 3"/>
          <p:cNvSpPr/>
          <p:nvPr/>
        </p:nvSpPr>
        <p:spPr>
          <a:xfrm>
            <a:off x="66596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AquaFed    </a:t>
            </a:r>
            <a:fld id="{9EEF29B9-87DC-4694-85A3-FE5019339A91}" type="slidenum"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0" y="1000080"/>
          <a:ext cx="9144000" cy="5865840"/>
        </p:xfrm>
        <a:graphic>
          <a:graphicData uri="http://schemas.openxmlformats.org/drawingml/2006/table">
            <a:tbl>
              <a:tblPr/>
              <a:tblGrid>
                <a:gridCol w="1332000"/>
                <a:gridCol w="5681520"/>
                <a:gridCol w="2130480"/>
              </a:tblGrid>
              <a:tr h="734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Population urba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Ave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(million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fcc"/>
                    </a:solidFill>
                  </a:tcPr>
                </a:tc>
              </a:tr>
              <a:tr h="7477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Avec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accès permanent à l’eau coura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n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on mesur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22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Avec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accès à un robi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+39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4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Avec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accès à une source “améliorée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+4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7239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Avec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épuration de ses eaux usé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c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non mesur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2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Avec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collecte de ses eaux usé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c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non mesur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4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Avec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des toilettes hygiéniques et privativ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(= assainissement de bas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+3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2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Avec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accès à des installations même frus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c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+50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  <p:sp>
        <p:nvSpPr>
          <p:cNvPr id="593" name="ZoneTexte 5"/>
          <p:cNvSpPr/>
          <p:nvPr/>
        </p:nvSpPr>
        <p:spPr>
          <a:xfrm rot="16200000">
            <a:off x="-575280" y="26110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Eau po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ZoneTexte 6"/>
          <p:cNvSpPr/>
          <p:nvPr/>
        </p:nvSpPr>
        <p:spPr>
          <a:xfrm rot="16200000">
            <a:off x="-880920" y="512712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Assainiss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ZoneTexte 6"/>
          <p:cNvSpPr/>
          <p:nvPr/>
        </p:nvSpPr>
        <p:spPr>
          <a:xfrm>
            <a:off x="4155840" y="1143000"/>
            <a:ext cx="2693880" cy="5205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ahoma"/>
                <a:ea typeface="Tahoma"/>
              </a:rPr>
              <a:t>(+ 510 millio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TradeGothic"/>
              </a:rPr>
              <a:t>Global trends between 2000 and 2008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97" name="Espace réservé du numéro de diapositive 3"/>
          <p:cNvSpPr/>
          <p:nvPr/>
        </p:nvSpPr>
        <p:spPr>
          <a:xfrm>
            <a:off x="4857840" y="6072120"/>
            <a:ext cx="2895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AquaFed    </a:t>
            </a:r>
            <a:fld id="{8526B493-E755-491F-B065-B7C0EDF12030}" type="slidenum"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0" y="0"/>
          <a:ext cx="9144000" cy="6953400"/>
        </p:xfrm>
        <a:graphic>
          <a:graphicData uri="http://schemas.openxmlformats.org/drawingml/2006/table">
            <a:tbl>
              <a:tblPr/>
              <a:tblGrid>
                <a:gridCol w="928800"/>
                <a:gridCol w="4714920"/>
                <a:gridCol w="1785960"/>
                <a:gridCol w="1714320"/>
              </a:tblGrid>
              <a:tr h="5814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Tendances mondiales entre 2000 et 200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Variation de  population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(millions)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Moiti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Urba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Moiti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Rur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25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accès perman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à l’eau cour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accès à un robin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accès à une source d’eau « améliorée 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4597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épuration de ses usé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c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collecte des eaux usée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c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toilette hygiénique priva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(= assainissement de bas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toilett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(défécation en plein air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c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  <p:sp>
        <p:nvSpPr>
          <p:cNvPr id="599" name="ZoneTexte 5"/>
          <p:cNvSpPr/>
          <p:nvPr/>
        </p:nvSpPr>
        <p:spPr>
          <a:xfrm rot="16200000">
            <a:off x="-575280" y="24681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Eau po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ZoneTexte 6"/>
          <p:cNvSpPr/>
          <p:nvPr/>
        </p:nvSpPr>
        <p:spPr>
          <a:xfrm rot="16200000">
            <a:off x="-880920" y="523512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Assainisseme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ZoneTexte 7"/>
          <p:cNvSpPr/>
          <p:nvPr/>
        </p:nvSpPr>
        <p:spPr>
          <a:xfrm>
            <a:off x="6357600" y="17146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Non mesur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ZoneTexte 8"/>
          <p:cNvSpPr/>
          <p:nvPr/>
        </p:nvSpPr>
        <p:spPr>
          <a:xfrm>
            <a:off x="6357600" y="407196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Non mesur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ZoneTexte 9"/>
          <p:cNvSpPr/>
          <p:nvPr/>
        </p:nvSpPr>
        <p:spPr>
          <a:xfrm>
            <a:off x="6357600" y="478620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Non mesur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04" name="Connecteur droit avec flèche 18"/>
          <p:cNvCxnSpPr/>
          <p:nvPr/>
        </p:nvCxnSpPr>
        <p:spPr>
          <a:xfrm>
            <a:off x="7643520" y="3286080"/>
            <a:ext cx="121500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5" name="Connecteur droit avec flèche 19"/>
          <p:cNvCxnSpPr/>
          <p:nvPr/>
        </p:nvCxnSpPr>
        <p:spPr>
          <a:xfrm>
            <a:off x="7715160" y="6354720"/>
            <a:ext cx="121536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6" name="Connecteur droit avec flèche 20"/>
          <p:cNvCxnSpPr/>
          <p:nvPr/>
        </p:nvCxnSpPr>
        <p:spPr>
          <a:xfrm>
            <a:off x="7715160" y="2571840"/>
            <a:ext cx="121536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7" name="Connecteur droit avec flèche 21"/>
          <p:cNvCxnSpPr/>
          <p:nvPr/>
        </p:nvCxnSpPr>
        <p:spPr>
          <a:xfrm>
            <a:off x="7715160" y="5643720"/>
            <a:ext cx="121536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8" name="ZoneTexte 31"/>
          <p:cNvSpPr/>
          <p:nvPr/>
        </p:nvSpPr>
        <p:spPr>
          <a:xfrm>
            <a:off x="7394760" y="3429000"/>
            <a:ext cx="9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- 18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ZoneTexte 32"/>
          <p:cNvSpPr/>
          <p:nvPr/>
        </p:nvSpPr>
        <p:spPr>
          <a:xfrm>
            <a:off x="7354080" y="264312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- 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ZoneTexte 33"/>
          <p:cNvSpPr/>
          <p:nvPr/>
        </p:nvSpPr>
        <p:spPr>
          <a:xfrm>
            <a:off x="7323480" y="6443640"/>
            <a:ext cx="9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- 12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ZoneTexte 34"/>
          <p:cNvSpPr/>
          <p:nvPr/>
        </p:nvSpPr>
        <p:spPr>
          <a:xfrm>
            <a:off x="7354080" y="571500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- 6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ZoneTexte 5"/>
          <p:cNvSpPr/>
          <p:nvPr/>
        </p:nvSpPr>
        <p:spPr>
          <a:xfrm>
            <a:off x="7978680" y="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  <a:ea typeface="Arial"/>
              </a:rPr>
              <a:t>AquaF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TradeGothic"/>
              </a:rPr>
              <a:t>Global trends between 2000 and 2008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614" name="Espace réservé du numéro de diapositive 3"/>
          <p:cNvSpPr/>
          <p:nvPr/>
        </p:nvSpPr>
        <p:spPr>
          <a:xfrm>
            <a:off x="4857840" y="6072120"/>
            <a:ext cx="2895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AquaFed    </a:t>
            </a:r>
            <a:fld id="{872C730A-EEC1-4D03-9251-ACB59B9A3A2E}" type="slidenum"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0" y="0"/>
          <a:ext cx="9144000" cy="6953400"/>
        </p:xfrm>
        <a:graphic>
          <a:graphicData uri="http://schemas.openxmlformats.org/drawingml/2006/table">
            <a:tbl>
              <a:tblPr/>
              <a:tblGrid>
                <a:gridCol w="928800"/>
                <a:gridCol w="4714920"/>
                <a:gridCol w="1785960"/>
                <a:gridCol w="1714320"/>
              </a:tblGrid>
              <a:tr h="5814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Tendances mondiales entre 2000 et 200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Variation de  population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(millions)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Moiti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Urba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Moiti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Rur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25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accès perman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à l’eau cour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accès à un robin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accès à une source d’eau « améliorée 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4597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épuration de ses usé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c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collecte des eaux usée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c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toilette hygiénique priva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(= assainissement de bas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toilett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(défécation en plein air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c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  <p:sp>
        <p:nvSpPr>
          <p:cNvPr id="616" name="ZoneTexte 5"/>
          <p:cNvSpPr/>
          <p:nvPr/>
        </p:nvSpPr>
        <p:spPr>
          <a:xfrm rot="16200000">
            <a:off x="-575280" y="24681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Eau po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ZoneTexte 6"/>
          <p:cNvSpPr/>
          <p:nvPr/>
        </p:nvSpPr>
        <p:spPr>
          <a:xfrm rot="16200000">
            <a:off x="-880920" y="523512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Assainisseme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ZoneTexte 7"/>
          <p:cNvSpPr/>
          <p:nvPr/>
        </p:nvSpPr>
        <p:spPr>
          <a:xfrm>
            <a:off x="6357600" y="17146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Non mesur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ZoneTexte 8"/>
          <p:cNvSpPr/>
          <p:nvPr/>
        </p:nvSpPr>
        <p:spPr>
          <a:xfrm>
            <a:off x="6357600" y="407196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Non mesur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ZoneTexte 9"/>
          <p:cNvSpPr/>
          <p:nvPr/>
        </p:nvSpPr>
        <p:spPr>
          <a:xfrm>
            <a:off x="6357600" y="478620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Non mesur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21" name="Connecteur droit avec flèche 11"/>
          <p:cNvCxnSpPr/>
          <p:nvPr/>
        </p:nvCxnSpPr>
        <p:spPr>
          <a:xfrm flipV="1">
            <a:off x="6143400" y="2642760"/>
            <a:ext cx="121500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2" name="Connecteur droit avec flèche 12"/>
          <p:cNvCxnSpPr/>
          <p:nvPr/>
        </p:nvCxnSpPr>
        <p:spPr>
          <a:xfrm flipV="1">
            <a:off x="6000480" y="5714640"/>
            <a:ext cx="121500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Connecteur droit avec flèche 23"/>
          <p:cNvCxnSpPr/>
          <p:nvPr/>
        </p:nvCxnSpPr>
        <p:spPr>
          <a:xfrm flipV="1">
            <a:off x="6000480" y="3428640"/>
            <a:ext cx="121500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Connecteur droit avec flèche 24"/>
          <p:cNvCxnSpPr/>
          <p:nvPr/>
        </p:nvCxnSpPr>
        <p:spPr>
          <a:xfrm flipV="1">
            <a:off x="5929200" y="6426000"/>
            <a:ext cx="121536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Connecteur droit avec flèche 18"/>
          <p:cNvCxnSpPr/>
          <p:nvPr/>
        </p:nvCxnSpPr>
        <p:spPr>
          <a:xfrm>
            <a:off x="7643520" y="3286080"/>
            <a:ext cx="121500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Connecteur droit avec flèche 19"/>
          <p:cNvCxnSpPr/>
          <p:nvPr/>
        </p:nvCxnSpPr>
        <p:spPr>
          <a:xfrm>
            <a:off x="7715160" y="6354720"/>
            <a:ext cx="121536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Connecteur droit avec flèche 20"/>
          <p:cNvCxnSpPr/>
          <p:nvPr/>
        </p:nvCxnSpPr>
        <p:spPr>
          <a:xfrm>
            <a:off x="7715160" y="2571840"/>
            <a:ext cx="121536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Connecteur droit avec flèche 21"/>
          <p:cNvCxnSpPr/>
          <p:nvPr/>
        </p:nvCxnSpPr>
        <p:spPr>
          <a:xfrm>
            <a:off x="7715160" y="5643720"/>
            <a:ext cx="121536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ZoneTexte 26"/>
          <p:cNvSpPr/>
          <p:nvPr/>
        </p:nvSpPr>
        <p:spPr>
          <a:xfrm>
            <a:off x="5610240" y="2428920"/>
            <a:ext cx="10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+ 11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ZoneTexte 27"/>
          <p:cNvSpPr/>
          <p:nvPr/>
        </p:nvSpPr>
        <p:spPr>
          <a:xfrm>
            <a:off x="5569560" y="314316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+ 1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ZoneTexte 29"/>
          <p:cNvSpPr/>
          <p:nvPr/>
        </p:nvSpPr>
        <p:spPr>
          <a:xfrm>
            <a:off x="5538600" y="5429160"/>
            <a:ext cx="10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+ 13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ZoneTexte 30"/>
          <p:cNvSpPr/>
          <p:nvPr/>
        </p:nvSpPr>
        <p:spPr>
          <a:xfrm>
            <a:off x="5665680" y="6215040"/>
            <a:ext cx="7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+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ZoneTexte 31"/>
          <p:cNvSpPr/>
          <p:nvPr/>
        </p:nvSpPr>
        <p:spPr>
          <a:xfrm>
            <a:off x="7394760" y="3429000"/>
            <a:ext cx="9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- 18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ZoneTexte 32"/>
          <p:cNvSpPr/>
          <p:nvPr/>
        </p:nvSpPr>
        <p:spPr>
          <a:xfrm>
            <a:off x="7354080" y="264312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- 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ZoneTexte 33"/>
          <p:cNvSpPr/>
          <p:nvPr/>
        </p:nvSpPr>
        <p:spPr>
          <a:xfrm>
            <a:off x="7323480" y="6443640"/>
            <a:ext cx="9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- 12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ZoneTexte 34"/>
          <p:cNvSpPr/>
          <p:nvPr/>
        </p:nvSpPr>
        <p:spPr>
          <a:xfrm>
            <a:off x="7354080" y="571500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- 6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ZoneTexte 5"/>
          <p:cNvSpPr/>
          <p:nvPr/>
        </p:nvSpPr>
        <p:spPr>
          <a:xfrm>
            <a:off x="7978680" y="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  <a:ea typeface="Arial"/>
              </a:rPr>
              <a:t>AquaF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Espace réservé du contenu 2"/>
          <p:cNvSpPr/>
          <p:nvPr/>
        </p:nvSpPr>
        <p:spPr>
          <a:xfrm rot="21150600">
            <a:off x="534960" y="3668760"/>
            <a:ext cx="821520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Tahoma"/>
                <a:ea typeface="Tahoma"/>
              </a:rPr>
              <a:t>Les efforts actuels ne sont pas suffisants pour assurer un accès satisfaisant à l’eau potable pour t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Espace réservé du numéro de diapositive 5"/>
          <p:cNvSpPr/>
          <p:nvPr/>
        </p:nvSpPr>
        <p:spPr>
          <a:xfrm>
            <a:off x="8572680" y="6400800"/>
            <a:ext cx="57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535B-AD28-44BC-BD9E-D885A2445AD4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Espace réservé du contenu 2"/>
          <p:cNvSpPr/>
          <p:nvPr/>
        </p:nvSpPr>
        <p:spPr>
          <a:xfrm>
            <a:off x="468360" y="2060640"/>
            <a:ext cx="65721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ahoma"/>
                <a:ea typeface="Tahoma"/>
              </a:rPr>
              <a:t>L’accès à l’eau régresse dans la moitié urbaine du monde</a:t>
            </a:r>
            <a:r>
              <a:rPr b="1" lang="fr-FR" sz="3200" spc="-1" strike="noStrike" baseline="30000">
                <a:solidFill>
                  <a:srgbClr val="ff0000"/>
                </a:solidFill>
                <a:latin typeface="Tahoma"/>
                <a:ea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Rectangle 1026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712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ahoma"/>
              </a:rPr>
              <a:t>La course-poursuite entre politiques publiques et urbanis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Espace réservé du contenu 2"/>
          <p:cNvSpPr/>
          <p:nvPr/>
        </p:nvSpPr>
        <p:spPr>
          <a:xfrm rot="21081000">
            <a:off x="44280" y="183960"/>
            <a:ext cx="2516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ahoma"/>
                <a:ea typeface="Tahoma"/>
              </a:rPr>
              <a:t>URGE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ZoneTexte 7"/>
          <p:cNvSpPr/>
          <p:nvPr/>
        </p:nvSpPr>
        <p:spPr>
          <a:xfrm>
            <a:off x="237240" y="6149880"/>
            <a:ext cx="615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baseline="30000">
                <a:solidFill>
                  <a:srgbClr val="000066"/>
                </a:solidFill>
                <a:latin typeface="Tahoma"/>
                <a:ea typeface="Tahoma"/>
              </a:rPr>
              <a:t>1 </a:t>
            </a:r>
            <a:r>
              <a:rPr b="0" lang="fr-FR" sz="2000" spc="-1" strike="noStrike">
                <a:solidFill>
                  <a:srgbClr val="000066"/>
                </a:solidFill>
                <a:latin typeface="Tahoma"/>
                <a:ea typeface="Tahoma"/>
              </a:rPr>
              <a:t>Voir communiqué AquaFed du 7 septembre 20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0" lang="fr-FR" sz="2000" spc="-1" strike="noStrike">
                <a:solidFill>
                  <a:srgbClr val="000066"/>
                </a:solidFill>
                <a:latin typeface="Tahoma"/>
                <a:ea typeface="Tahoma"/>
              </a:rPr>
              <a:t>et déclaration Ban Ki-Moon du 22 mars 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6" descr="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642960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fr-FR" sz="4000" spc="-1" strike="noStrike">
                <a:solidFill>
                  <a:srgbClr val="0033cc"/>
                </a:solidFill>
                <a:latin typeface="Tahoma"/>
                <a:ea typeface="Tahoma"/>
              </a:rPr>
              <a:t>3. Le nouveau Droit  de l’Homm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4"/>
          <p:cNvSpPr/>
          <p:nvPr/>
        </p:nvSpPr>
        <p:spPr>
          <a:xfrm>
            <a:off x="928800" y="1428840"/>
            <a:ext cx="1357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ff"/>
                </a:solidFill>
                <a:latin typeface="Tahoma"/>
              </a:rPr>
              <a:t>Dro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i="1" lang="en-GB" sz="36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Rectangle 2"/>
          <p:cNvSpPr/>
          <p:nvPr/>
        </p:nvSpPr>
        <p:spPr>
          <a:xfrm>
            <a:off x="0" y="0"/>
            <a:ext cx="914400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0000"/>
                </a:solidFill>
                <a:latin typeface="TradeGothic"/>
                <a:ea typeface="Tahoma"/>
              </a:rPr>
              <a:t>les Eléments du Droit à l’Eau potab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Espace réservé du numéro de diapositive 5"/>
          <p:cNvSpPr/>
          <p:nvPr/>
        </p:nvSpPr>
        <p:spPr>
          <a:xfrm>
            <a:off x="8572680" y="6400800"/>
            <a:ext cx="57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E4C6-8FF4-4D48-A52C-B7E5395FA8F4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Rectangle 4"/>
          <p:cNvSpPr/>
          <p:nvPr/>
        </p:nvSpPr>
        <p:spPr>
          <a:xfrm>
            <a:off x="5429160" y="1428840"/>
            <a:ext cx="3357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ff"/>
                </a:solidFill>
                <a:latin typeface="Tahoma"/>
              </a:rPr>
              <a:t>Professionne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i="1" lang="en-GB" sz="36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0" name="Groupe 33"/>
          <p:cNvGrpSpPr/>
          <p:nvPr/>
        </p:nvGrpSpPr>
        <p:grpSpPr>
          <a:xfrm>
            <a:off x="285840" y="2357280"/>
            <a:ext cx="7744680" cy="500400"/>
            <a:chOff x="285840" y="2357280"/>
            <a:chExt cx="7744680" cy="500400"/>
          </a:xfrm>
        </p:grpSpPr>
        <p:sp>
          <p:nvSpPr>
            <p:cNvPr id="651" name="Rectangle à coins arrondis 10"/>
            <p:cNvSpPr/>
            <p:nvPr/>
          </p:nvSpPr>
          <p:spPr>
            <a:xfrm>
              <a:off x="285840" y="2357280"/>
              <a:ext cx="2571840" cy="500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c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potabl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2" name="Groupe 26"/>
            <p:cNvGrpSpPr/>
            <p:nvPr/>
          </p:nvGrpSpPr>
          <p:grpSpPr>
            <a:xfrm>
              <a:off x="3571560" y="2357280"/>
              <a:ext cx="4458960" cy="459720"/>
              <a:chOff x="3571560" y="2357280"/>
              <a:chExt cx="4458960" cy="459720"/>
            </a:xfrm>
          </p:grpSpPr>
          <p:sp>
            <p:nvSpPr>
              <p:cNvPr id="653" name="ZoneTexte 13"/>
              <p:cNvSpPr/>
              <p:nvPr/>
            </p:nvSpPr>
            <p:spPr>
              <a:xfrm>
                <a:off x="4972320" y="2357280"/>
                <a:ext cx="305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66"/>
                    </a:solidFill>
                    <a:latin typeface="Tahoma"/>
                    <a:ea typeface="Tahoma"/>
                  </a:rPr>
                  <a:t>Norme de potabilité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Flèche droite 19"/>
              <p:cNvSpPr/>
              <p:nvPr/>
            </p:nvSpPr>
            <p:spPr>
              <a:xfrm>
                <a:off x="3571560" y="2500200"/>
                <a:ext cx="1428480" cy="214560"/>
              </a:xfrm>
              <a:prstGeom prst="rightArrow">
                <a:avLst>
                  <a:gd name="adj1" fmla="val 50000"/>
                  <a:gd name="adj2" fmla="val 49933"/>
                </a:avLst>
              </a:prstGeom>
              <a:solidFill>
                <a:srgbClr val="cc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5" name="Groupe 34"/>
          <p:cNvGrpSpPr/>
          <p:nvPr/>
        </p:nvGrpSpPr>
        <p:grpSpPr>
          <a:xfrm>
            <a:off x="285840" y="3071880"/>
            <a:ext cx="7027920" cy="500040"/>
            <a:chOff x="285840" y="3071880"/>
            <a:chExt cx="7027920" cy="500040"/>
          </a:xfrm>
        </p:grpSpPr>
        <p:sp>
          <p:nvSpPr>
            <p:cNvPr id="656" name="Rectangle à coins arrondis 6"/>
            <p:cNvSpPr/>
            <p:nvPr/>
          </p:nvSpPr>
          <p:spPr>
            <a:xfrm>
              <a:off x="285840" y="3071880"/>
              <a:ext cx="2786040" cy="500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c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acceptabl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7" name="Groupe 27"/>
            <p:cNvGrpSpPr/>
            <p:nvPr/>
          </p:nvGrpSpPr>
          <p:grpSpPr>
            <a:xfrm>
              <a:off x="3571560" y="3071880"/>
              <a:ext cx="3742200" cy="459720"/>
              <a:chOff x="3571560" y="3071880"/>
              <a:chExt cx="3742200" cy="459720"/>
            </a:xfrm>
          </p:grpSpPr>
          <p:sp>
            <p:nvSpPr>
              <p:cNvPr id="658" name="ZoneTexte 14"/>
              <p:cNvSpPr/>
              <p:nvPr/>
            </p:nvSpPr>
            <p:spPr>
              <a:xfrm>
                <a:off x="4979520" y="3071880"/>
                <a:ext cx="233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66"/>
                    </a:solidFill>
                    <a:latin typeface="Tahoma"/>
                    <a:ea typeface="Tahoma"/>
                  </a:rPr>
                  <a:t>Couleur, odeu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Flèche droite 21"/>
              <p:cNvSpPr/>
              <p:nvPr/>
            </p:nvSpPr>
            <p:spPr>
              <a:xfrm>
                <a:off x="3571560" y="3214800"/>
                <a:ext cx="1428480" cy="214560"/>
              </a:xfrm>
              <a:prstGeom prst="rightArrow">
                <a:avLst>
                  <a:gd name="adj1" fmla="val 50000"/>
                  <a:gd name="adj2" fmla="val 49933"/>
                </a:avLst>
              </a:prstGeom>
              <a:solidFill>
                <a:srgbClr val="cc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0" name="Groupe 35"/>
          <p:cNvGrpSpPr/>
          <p:nvPr/>
        </p:nvGrpSpPr>
        <p:grpSpPr>
          <a:xfrm>
            <a:off x="285840" y="3786120"/>
            <a:ext cx="8564040" cy="500040"/>
            <a:chOff x="285840" y="3786120"/>
            <a:chExt cx="8564040" cy="500040"/>
          </a:xfrm>
        </p:grpSpPr>
        <p:sp>
          <p:nvSpPr>
            <p:cNvPr id="661" name="Rectangle à coins arrondis 9"/>
            <p:cNvSpPr/>
            <p:nvPr/>
          </p:nvSpPr>
          <p:spPr>
            <a:xfrm>
              <a:off x="285840" y="3786120"/>
              <a:ext cx="3571920" cy="500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c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Accessible, disponibl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2" name="Groupe 28"/>
            <p:cNvGrpSpPr/>
            <p:nvPr/>
          </p:nvGrpSpPr>
          <p:grpSpPr>
            <a:xfrm>
              <a:off x="4072320" y="3786120"/>
              <a:ext cx="4777560" cy="459720"/>
              <a:chOff x="4072320" y="3786120"/>
              <a:chExt cx="4777560" cy="459720"/>
            </a:xfrm>
          </p:grpSpPr>
          <p:sp>
            <p:nvSpPr>
              <p:cNvPr id="663" name="ZoneTexte 18"/>
              <p:cNvSpPr/>
              <p:nvPr/>
            </p:nvSpPr>
            <p:spPr>
              <a:xfrm>
                <a:off x="4991760" y="3786120"/>
                <a:ext cx="385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66"/>
                    </a:solidFill>
                    <a:latin typeface="Tahoma"/>
                    <a:ea typeface="Tahoma"/>
                  </a:rPr>
                  <a:t>24/7, distance point d’eau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Flèche droite 22"/>
              <p:cNvSpPr/>
              <p:nvPr/>
            </p:nvSpPr>
            <p:spPr>
              <a:xfrm>
                <a:off x="4072320" y="3929040"/>
                <a:ext cx="928440" cy="214560"/>
              </a:xfrm>
              <a:prstGeom prst="rightArrow">
                <a:avLst>
                  <a:gd name="adj1" fmla="val 50000"/>
                  <a:gd name="adj2" fmla="val 49923"/>
                </a:avLst>
              </a:prstGeom>
              <a:solidFill>
                <a:srgbClr val="cc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5" name="Groupe 36"/>
          <p:cNvGrpSpPr/>
          <p:nvPr/>
        </p:nvGrpSpPr>
        <p:grpSpPr>
          <a:xfrm>
            <a:off x="285840" y="4500720"/>
            <a:ext cx="7414200" cy="531000"/>
            <a:chOff x="285840" y="4500720"/>
            <a:chExt cx="7414200" cy="531000"/>
          </a:xfrm>
        </p:grpSpPr>
        <p:sp>
          <p:nvSpPr>
            <p:cNvPr id="666" name="Rectangle à coins arrondis 7"/>
            <p:cNvSpPr/>
            <p:nvPr/>
          </p:nvSpPr>
          <p:spPr>
            <a:xfrm>
              <a:off x="285840" y="4500720"/>
              <a:ext cx="3643200" cy="500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c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d’un coût abordabl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7" name="Groupe 29"/>
            <p:cNvGrpSpPr/>
            <p:nvPr/>
          </p:nvGrpSpPr>
          <p:grpSpPr>
            <a:xfrm>
              <a:off x="4071960" y="4572000"/>
              <a:ext cx="3628080" cy="459720"/>
              <a:chOff x="4071960" y="4572000"/>
              <a:chExt cx="3628080" cy="459720"/>
            </a:xfrm>
          </p:grpSpPr>
          <p:sp>
            <p:nvSpPr>
              <p:cNvPr id="668" name="ZoneTexte 15"/>
              <p:cNvSpPr/>
              <p:nvPr/>
            </p:nvSpPr>
            <p:spPr>
              <a:xfrm>
                <a:off x="4993920" y="4572000"/>
                <a:ext cx="2706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66"/>
                    </a:solidFill>
                    <a:latin typeface="Tahoma"/>
                    <a:ea typeface="Tahoma"/>
                  </a:rPr>
                  <a:t>Tarification, aide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Flèche droite 23"/>
              <p:cNvSpPr/>
              <p:nvPr/>
            </p:nvSpPr>
            <p:spPr>
              <a:xfrm>
                <a:off x="4071960" y="4643280"/>
                <a:ext cx="1000080" cy="214560"/>
              </a:xfrm>
              <a:prstGeom prst="rightArrow">
                <a:avLst>
                  <a:gd name="adj1" fmla="val 50000"/>
                  <a:gd name="adj2" fmla="val 49934"/>
                </a:avLst>
              </a:prstGeom>
              <a:solidFill>
                <a:srgbClr val="cc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0" name="Groupe 37"/>
          <p:cNvGrpSpPr/>
          <p:nvPr/>
        </p:nvGrpSpPr>
        <p:grpSpPr>
          <a:xfrm>
            <a:off x="285840" y="5214960"/>
            <a:ext cx="8179560" cy="500040"/>
            <a:chOff x="285840" y="5214960"/>
            <a:chExt cx="8179560" cy="500040"/>
          </a:xfrm>
        </p:grpSpPr>
        <p:sp>
          <p:nvSpPr>
            <p:cNvPr id="671" name="Rectangle à coins arrondis 11"/>
            <p:cNvSpPr/>
            <p:nvPr/>
          </p:nvSpPr>
          <p:spPr>
            <a:xfrm>
              <a:off x="285840" y="5214960"/>
              <a:ext cx="3643200" cy="500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c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en quantité suffisant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2" name="Groupe 30"/>
            <p:cNvGrpSpPr/>
            <p:nvPr/>
          </p:nvGrpSpPr>
          <p:grpSpPr>
            <a:xfrm>
              <a:off x="4071960" y="5214960"/>
              <a:ext cx="4393440" cy="459720"/>
              <a:chOff x="4071960" y="5214960"/>
              <a:chExt cx="4393440" cy="459720"/>
            </a:xfrm>
          </p:grpSpPr>
          <p:sp>
            <p:nvSpPr>
              <p:cNvPr id="673" name="ZoneTexte 16"/>
              <p:cNvSpPr/>
              <p:nvPr/>
            </p:nvSpPr>
            <p:spPr>
              <a:xfrm>
                <a:off x="5047560" y="5214960"/>
                <a:ext cx="3417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66"/>
                    </a:solidFill>
                    <a:latin typeface="Tahoma"/>
                    <a:ea typeface="Tahoma"/>
                  </a:rPr>
                  <a:t>Pression minimale, et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Flèche droite 24"/>
              <p:cNvSpPr/>
              <p:nvPr/>
            </p:nvSpPr>
            <p:spPr>
              <a:xfrm>
                <a:off x="4071960" y="5357880"/>
                <a:ext cx="1000080" cy="214560"/>
              </a:xfrm>
              <a:prstGeom prst="rightArrow">
                <a:avLst>
                  <a:gd name="adj1" fmla="val 50000"/>
                  <a:gd name="adj2" fmla="val 49934"/>
                </a:avLst>
              </a:prstGeom>
              <a:solidFill>
                <a:srgbClr val="cc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5" name="Groupe 38"/>
          <p:cNvGrpSpPr/>
          <p:nvPr/>
        </p:nvGrpSpPr>
        <p:grpSpPr>
          <a:xfrm>
            <a:off x="285840" y="5857920"/>
            <a:ext cx="7435800" cy="825480"/>
            <a:chOff x="285840" y="5857920"/>
            <a:chExt cx="7435800" cy="825480"/>
          </a:xfrm>
        </p:grpSpPr>
        <p:sp>
          <p:nvSpPr>
            <p:cNvPr id="676" name="Rectangle à coins arrondis 4"/>
            <p:cNvSpPr/>
            <p:nvPr/>
          </p:nvSpPr>
          <p:spPr>
            <a:xfrm>
              <a:off x="285840" y="5929200"/>
              <a:ext cx="3500280" cy="500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c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sans discrimina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7" name="Groupe 31"/>
            <p:cNvGrpSpPr/>
            <p:nvPr/>
          </p:nvGrpSpPr>
          <p:grpSpPr>
            <a:xfrm>
              <a:off x="4072320" y="5857920"/>
              <a:ext cx="3649320" cy="825480"/>
              <a:chOff x="4072320" y="5857920"/>
              <a:chExt cx="3649320" cy="825480"/>
            </a:xfrm>
          </p:grpSpPr>
          <p:sp>
            <p:nvSpPr>
              <p:cNvPr id="678" name="ZoneTexte 17"/>
              <p:cNvSpPr/>
              <p:nvPr/>
            </p:nvSpPr>
            <p:spPr>
              <a:xfrm>
                <a:off x="5099400" y="5857920"/>
                <a:ext cx="2622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66"/>
                    </a:solidFill>
                    <a:latin typeface="Tahoma"/>
                    <a:ea typeface="Tahoma"/>
                  </a:rPr>
                  <a:t>Égalité devant le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66"/>
                    </a:solidFill>
                    <a:latin typeface="Tahoma"/>
                    <a:ea typeface="Tahoma"/>
                  </a:rPr>
                  <a:t>service publi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Flèche droite 25"/>
              <p:cNvSpPr/>
              <p:nvPr/>
            </p:nvSpPr>
            <p:spPr>
              <a:xfrm>
                <a:off x="4072320" y="6071760"/>
                <a:ext cx="1000080" cy="213840"/>
              </a:xfrm>
              <a:prstGeom prst="rightArrow">
                <a:avLst>
                  <a:gd name="adj1" fmla="val 50000"/>
                  <a:gd name="adj2" fmla="val 50102"/>
                </a:avLst>
              </a:prstGeom>
              <a:solidFill>
                <a:srgbClr val="cc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0" name="Double flèche horizontale 32"/>
          <p:cNvSpPr/>
          <p:nvPr/>
        </p:nvSpPr>
        <p:spPr>
          <a:xfrm>
            <a:off x="3000240" y="1571760"/>
            <a:ext cx="2214720" cy="357120"/>
          </a:xfrm>
          <a:prstGeom prst="leftRightArrow">
            <a:avLst>
              <a:gd name="adj1" fmla="val 50000"/>
              <a:gd name="adj2" fmla="val 50015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2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radeGothic"/>
                <a:ea typeface="Tahoma"/>
              </a:rPr>
              <a:t>Coûts abordables: attention aux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radeGothic"/>
                <a:ea typeface="Tahoma"/>
              </a:rPr>
              <a:t>effets des subven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Espace réservé du numéro de diapositive 5"/>
          <p:cNvSpPr/>
          <p:nvPr/>
        </p:nvSpPr>
        <p:spPr>
          <a:xfrm>
            <a:off x="8572680" y="6400800"/>
            <a:ext cx="57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EAAC-16C5-414D-8C88-DCEF9E923D74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3" name="Groupe 9"/>
          <p:cNvGrpSpPr/>
          <p:nvPr/>
        </p:nvGrpSpPr>
        <p:grpSpPr>
          <a:xfrm>
            <a:off x="500040" y="3143160"/>
            <a:ext cx="8143920" cy="2428920"/>
            <a:chOff x="500040" y="3143160"/>
            <a:chExt cx="8143920" cy="2428920"/>
          </a:xfrm>
        </p:grpSpPr>
        <p:sp>
          <p:nvSpPr>
            <p:cNvPr id="684" name="Rectangle à coins arrondis 4"/>
            <p:cNvSpPr/>
            <p:nvPr/>
          </p:nvSpPr>
          <p:spPr>
            <a:xfrm>
              <a:off x="500040" y="3143160"/>
              <a:ext cx="3143160" cy="24289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3200" spc="-1" strike="noStrike">
                  <a:solidFill>
                    <a:srgbClr val="c00000"/>
                  </a:solidFill>
                  <a:latin typeface="TradeGothic"/>
                </a:rPr>
                <a:t>Bénéficiair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3200" spc="-1" strike="noStrike">
                  <a:solidFill>
                    <a:srgbClr val="c00000"/>
                  </a:solidFill>
                  <a:latin typeface="TradeGothic"/>
                </a:rPr>
                <a:t>du service publi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Rectangle à coins arrondis 6"/>
            <p:cNvSpPr/>
            <p:nvPr/>
          </p:nvSpPr>
          <p:spPr>
            <a:xfrm>
              <a:off x="5429160" y="3143160"/>
              <a:ext cx="3214800" cy="24289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3200" spc="-1" strike="noStrike">
                  <a:solidFill>
                    <a:srgbClr val="c00000"/>
                  </a:solidFill>
                  <a:latin typeface="TradeGothic"/>
                </a:rPr>
                <a:t>Non bénéficiair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3200" spc="-1" strike="noStrike">
                  <a:solidFill>
                    <a:srgbClr val="c00000"/>
                  </a:solidFill>
                  <a:latin typeface="TradeGothic"/>
                </a:rPr>
                <a:t>du service publi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Double flèche horizontale 7"/>
            <p:cNvSpPr/>
            <p:nvPr/>
          </p:nvSpPr>
          <p:spPr>
            <a:xfrm>
              <a:off x="3786120" y="4214880"/>
              <a:ext cx="1500120" cy="714240"/>
            </a:xfrm>
            <a:prstGeom prst="leftRightArrow">
              <a:avLst>
                <a:gd name="adj1" fmla="val 50000"/>
                <a:gd name="adj2" fmla="val 50009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7" name="ZoneTexte 8"/>
          <p:cNvSpPr/>
          <p:nvPr/>
        </p:nvSpPr>
        <p:spPr>
          <a:xfrm>
            <a:off x="556920" y="1857240"/>
            <a:ext cx="282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  <a:ea typeface="Tahoma"/>
              </a:rPr>
              <a:t>Subven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Flèche vers le bas 10"/>
          <p:cNvSpPr/>
          <p:nvPr/>
        </p:nvSpPr>
        <p:spPr>
          <a:xfrm>
            <a:off x="1500120" y="2571840"/>
            <a:ext cx="1000080" cy="785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ZoneTexte 11"/>
          <p:cNvSpPr/>
          <p:nvPr/>
        </p:nvSpPr>
        <p:spPr>
          <a:xfrm>
            <a:off x="5674680" y="5657760"/>
            <a:ext cx="284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  <a:ea typeface="Tahoma"/>
              </a:rPr>
              <a:t>Coût 10 fo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  <a:ea typeface="Tahoma"/>
              </a:rPr>
              <a:t>plus élev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Espace réservé du numéro de diapositive 5"/>
          <p:cNvSpPr/>
          <p:nvPr/>
        </p:nvSpPr>
        <p:spPr>
          <a:xfrm>
            <a:off x="8429760" y="6400800"/>
            <a:ext cx="71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D1C2-C88C-4A3A-A028-5ED239FD0DFB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071600" y="-360"/>
            <a:ext cx="5072040" cy="25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cc0000"/>
                </a:solidFill>
                <a:latin typeface="TradeGothic"/>
              </a:rPr>
              <a:t>Coût abordable: </a:t>
            </a:r>
            <a:br>
              <a:rPr sz="4000"/>
            </a:br>
            <a:r>
              <a:rPr b="0" lang="fr-FR" sz="4000" spc="-1" strike="noStrike">
                <a:solidFill>
                  <a:srgbClr val="cc0000"/>
                </a:solidFill>
                <a:latin typeface="TradeGothic"/>
              </a:rPr>
              <a:t>bien vérifier l’impact des subventions pour les plus pauvres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692" name="Rectangle 4"/>
          <p:cNvSpPr/>
          <p:nvPr/>
        </p:nvSpPr>
        <p:spPr>
          <a:xfrm>
            <a:off x="3929040" y="3143160"/>
            <a:ext cx="476244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es mécanismes non ciblés comme les tranches tarifaires croissantes peuvent bénéficier davantage aux riches qu’aux pauv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3" name="Groupe 15"/>
          <p:cNvGrpSpPr/>
          <p:nvPr/>
        </p:nvGrpSpPr>
        <p:grpSpPr>
          <a:xfrm>
            <a:off x="0" y="0"/>
            <a:ext cx="3527280" cy="6883560"/>
            <a:chOff x="0" y="0"/>
            <a:chExt cx="3527280" cy="6883560"/>
          </a:xfrm>
        </p:grpSpPr>
        <p:grpSp>
          <p:nvGrpSpPr>
            <p:cNvPr id="694" name="Groupe 14"/>
            <p:cNvGrpSpPr/>
            <p:nvPr/>
          </p:nvGrpSpPr>
          <p:grpSpPr>
            <a:xfrm>
              <a:off x="0" y="0"/>
              <a:ext cx="3527280" cy="6883560"/>
              <a:chOff x="0" y="0"/>
              <a:chExt cx="3527280" cy="6883560"/>
            </a:xfrm>
          </p:grpSpPr>
          <p:pic>
            <p:nvPicPr>
              <p:cNvPr id="695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3527280" cy="688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6" name="Pictu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285480" y="3286080"/>
                <a:ext cx="2866680" cy="2397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7" name="Pictu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255600" y="1143000"/>
                <a:ext cx="2841480" cy="239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8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237600" y="0"/>
                <a:ext cx="2858400" cy="1454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99" name="Picture 9" descr=""/>
            <p:cNvPicPr/>
            <p:nvPr/>
          </p:nvPicPr>
          <p:blipFill>
            <a:blip r:embed="rId5"/>
            <a:stretch/>
          </p:blipFill>
          <p:spPr>
            <a:xfrm>
              <a:off x="642600" y="5643720"/>
              <a:ext cx="2552400" cy="89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0" name="Picture 10" descr=""/>
            <p:cNvPicPr/>
            <p:nvPr/>
          </p:nvPicPr>
          <p:blipFill>
            <a:blip r:embed="rId6"/>
            <a:stretch/>
          </p:blipFill>
          <p:spPr>
            <a:xfrm>
              <a:off x="108000" y="6678360"/>
              <a:ext cx="1603080" cy="14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1" name="Groupe 8"/>
          <p:cNvGrpSpPr/>
          <p:nvPr/>
        </p:nvGrpSpPr>
        <p:grpSpPr>
          <a:xfrm>
            <a:off x="2142360" y="1285200"/>
            <a:ext cx="1715040" cy="2143440"/>
            <a:chOff x="2142360" y="1285200"/>
            <a:chExt cx="1715040" cy="2143440"/>
          </a:xfrm>
        </p:grpSpPr>
        <p:cxnSp>
          <p:nvCxnSpPr>
            <p:cNvPr id="702" name="Connecteur droit avec flèche 7"/>
            <p:cNvCxnSpPr/>
            <p:nvPr/>
          </p:nvCxnSpPr>
          <p:spPr>
            <a:xfrm flipH="1" flipV="1">
              <a:off x="2856960" y="1285200"/>
              <a:ext cx="1000800" cy="214380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arrow" w="med"/>
            </a:ln>
          </p:spPr>
        </p:cxnSp>
        <p:cxnSp>
          <p:nvCxnSpPr>
            <p:cNvPr id="703" name="Connecteur droit avec flèche 8"/>
            <p:cNvCxnSpPr/>
            <p:nvPr/>
          </p:nvCxnSpPr>
          <p:spPr>
            <a:xfrm flipH="1" flipV="1">
              <a:off x="2142360" y="1713960"/>
              <a:ext cx="1715400" cy="164376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arrow" w="med"/>
            </a:ln>
          </p:spPr>
        </p:cxnSp>
      </p:grpSp>
      <p:sp>
        <p:nvSpPr>
          <p:cNvPr id="704" name="Rectangle 4"/>
          <p:cNvSpPr/>
          <p:nvPr/>
        </p:nvSpPr>
        <p:spPr>
          <a:xfrm>
            <a:off x="3500280" y="6215040"/>
            <a:ext cx="2928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Source: UN Hum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Development Report 20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2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radeGothic"/>
                <a:ea typeface="Tahoma"/>
              </a:rPr>
              <a:t>Freins juridiques / politiq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radeGothic"/>
                <a:ea typeface="Tahoma"/>
              </a:rPr>
              <a:t> </a:t>
            </a:r>
            <a:r>
              <a:rPr b="0" lang="fr-FR" sz="3600" spc="-1" strike="noStrike">
                <a:solidFill>
                  <a:srgbClr val="cc0000"/>
                </a:solidFill>
                <a:latin typeface="TradeGothic"/>
                <a:ea typeface="Tahoma"/>
              </a:rPr>
              <a:t>au raccordement des bidonvil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Espace réservé du numéro de diapositive 5"/>
          <p:cNvSpPr/>
          <p:nvPr/>
        </p:nvSpPr>
        <p:spPr>
          <a:xfrm>
            <a:off x="8572680" y="6400800"/>
            <a:ext cx="57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7728-67C1-46CC-AEE9-56214D9BA28A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Rectangle à coins arrondis 4"/>
          <p:cNvSpPr/>
          <p:nvPr/>
        </p:nvSpPr>
        <p:spPr>
          <a:xfrm>
            <a:off x="857160" y="3000240"/>
            <a:ext cx="2786040" cy="242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c00000"/>
                </a:solidFill>
                <a:latin typeface="TradeGothic"/>
              </a:rPr>
              <a:t>droit à l’eau potab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Rectangle à coins arrondis 6"/>
          <p:cNvSpPr/>
          <p:nvPr/>
        </p:nvSpPr>
        <p:spPr>
          <a:xfrm>
            <a:off x="5429160" y="3000240"/>
            <a:ext cx="2786040" cy="242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c00000"/>
                </a:solidFill>
                <a:latin typeface="TradeGothic"/>
              </a:rPr>
              <a:t>droit de propriét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Double flèche horizontale 7"/>
          <p:cNvSpPr/>
          <p:nvPr/>
        </p:nvSpPr>
        <p:spPr>
          <a:xfrm>
            <a:off x="3786120" y="4071960"/>
            <a:ext cx="1500120" cy="714240"/>
          </a:xfrm>
          <a:prstGeom prst="leftRightArrow">
            <a:avLst>
              <a:gd name="adj1" fmla="val 50000"/>
              <a:gd name="adj2" fmla="val 50009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Espace réservé du numéro de diapositive 3"/>
          <p:cNvSpPr/>
          <p:nvPr/>
        </p:nvSpPr>
        <p:spPr>
          <a:xfrm>
            <a:off x="324000" y="6165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87DA-693A-49A8-91DA-2844824595D6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1" name="Picture 4" descr=""/>
          <p:cNvPicPr/>
          <p:nvPr/>
        </p:nvPicPr>
        <p:blipFill>
          <a:blip r:embed="rId1"/>
          <a:stretch/>
        </p:blipFill>
        <p:spPr>
          <a:xfrm>
            <a:off x="3571920" y="15840"/>
            <a:ext cx="5572080" cy="6842160"/>
          </a:xfrm>
          <a:prstGeom prst="rect">
            <a:avLst/>
          </a:prstGeom>
          <a:ln w="0">
            <a:noFill/>
          </a:ln>
        </p:spPr>
      </p:pic>
      <p:sp>
        <p:nvSpPr>
          <p:cNvPr id="712" name="ZoneTexte 6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c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Tahoma"/>
                <a:ea typeface="Tahoma"/>
              </a:rPr>
              <a:t>4. Vers des politiques plus ambitieu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3" name="Picture 6" descr=""/>
          <p:cNvPicPr/>
          <p:nvPr/>
        </p:nvPicPr>
        <p:blipFill>
          <a:blip r:embed="rId2"/>
          <a:stretch/>
        </p:blipFill>
        <p:spPr>
          <a:xfrm>
            <a:off x="0" y="2781360"/>
            <a:ext cx="4976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Espace réservé du numéro de diapositiv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C022-5ED5-4B92-B3B3-90A2BFF65898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radeGothic"/>
              </a:rPr>
              <a:t>    </a:t>
            </a:r>
            <a:r>
              <a:rPr b="0" lang="en-GB" sz="3200" spc="-1" strike="noStrike">
                <a:solidFill>
                  <a:srgbClr val="0033cc"/>
                </a:solidFill>
                <a:latin typeface="TradeGothic"/>
              </a:rPr>
              <a:t>	</a:t>
            </a:r>
            <a:r>
              <a:rPr b="0" lang="en-GB" sz="3200" spc="-1" strike="noStrike">
                <a:solidFill>
                  <a:srgbClr val="0033cc"/>
                </a:solidFill>
                <a:latin typeface="TradeGothic"/>
              </a:rPr>
              <a:t>  </a:t>
            </a:r>
            <a:r>
              <a:rPr b="0" lang="fr-FR" sz="2800" spc="-1" strike="noStrike">
                <a:solidFill>
                  <a:srgbClr val="0033cc"/>
                </a:solidFill>
                <a:latin typeface="TradeGothic"/>
              </a:rPr>
              <a:t>Conseil consultatif pour l’Eau et l’Assainissement </a:t>
            </a:r>
            <a:br>
              <a:rPr sz="2800"/>
            </a:br>
            <a:r>
              <a:rPr b="0" lang="fr-FR" sz="2800" spc="-1" strike="noStrike">
                <a:solidFill>
                  <a:srgbClr val="0033cc"/>
                </a:solidFill>
                <a:latin typeface="TradeGothic"/>
              </a:rPr>
              <a:t>     </a:t>
            </a:r>
            <a:r>
              <a:rPr b="0" lang="fr-FR" sz="2800" spc="-1" strike="noStrike">
                <a:solidFill>
                  <a:srgbClr val="0033cc"/>
                </a:solidFill>
                <a:latin typeface="TradeGothic"/>
              </a:rPr>
              <a:t>	</a:t>
            </a:r>
            <a:r>
              <a:rPr b="0" lang="fr-FR" sz="2800" spc="-1" strike="noStrike">
                <a:solidFill>
                  <a:srgbClr val="0033cc"/>
                </a:solidFill>
                <a:latin typeface="TradeGothic"/>
              </a:rPr>
              <a:t>        du Secrétaire général des Nations Unies</a:t>
            </a:r>
            <a:br>
              <a:rPr sz="2800"/>
            </a:br>
            <a:r>
              <a:rPr b="0" lang="fr-FR" sz="3200" spc="-1" strike="noStrike">
                <a:solidFill>
                  <a:srgbClr val="0033cc"/>
                </a:solidFill>
                <a:latin typeface="TradeGothic"/>
              </a:rPr>
              <a:t>	</a:t>
            </a:r>
            <a:r>
              <a:rPr b="0" lang="fr-FR" sz="3200" spc="-1" strike="noStrike">
                <a:solidFill>
                  <a:srgbClr val="0033cc"/>
                </a:solidFill>
                <a:latin typeface="TradeGothic"/>
              </a:rPr>
              <a:t>	</a:t>
            </a:r>
            <a:r>
              <a:rPr b="0" lang="fr-FR" sz="3200" spc="-1" strike="noStrike">
                <a:solidFill>
                  <a:srgbClr val="0033cc"/>
                </a:solidFill>
                <a:latin typeface="TradeGothic"/>
              </a:rPr>
              <a:t>	</a:t>
            </a:r>
            <a:r>
              <a:rPr b="0" lang="fr-FR" sz="3200" spc="-1" strike="noStrike">
                <a:solidFill>
                  <a:srgbClr val="0033cc"/>
                </a:solidFill>
                <a:latin typeface="TradeGothic"/>
              </a:rPr>
              <a:t>       “</a:t>
            </a:r>
            <a:r>
              <a:rPr b="1" lang="fr-FR" sz="3200" spc="-1" strike="noStrike">
                <a:solidFill>
                  <a:srgbClr val="0033cc"/>
                </a:solidFill>
                <a:latin typeface="TradeGothic"/>
              </a:rPr>
              <a:t>UNSGAB</a:t>
            </a:r>
            <a:r>
              <a:rPr b="0" lang="fr-FR" sz="3200" spc="-1" strike="noStrike">
                <a:solidFill>
                  <a:srgbClr val="0033cc"/>
                </a:solidFill>
                <a:latin typeface="TradeGothic"/>
              </a:rPr>
              <a:t>”</a:t>
            </a:r>
            <a:endParaRPr b="0" lang="en-US" sz="32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0040" y="2428920"/>
            <a:ext cx="8136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0000"/>
                </a:solidFill>
                <a:latin typeface="Tahoma"/>
                <a:ea typeface="Tahoma"/>
              </a:rPr>
              <a:t>Conseil indépendant de haut niveau 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00"/>
                </a:solidFill>
                <a:latin typeface="Tahoma"/>
                <a:ea typeface="Tahoma"/>
              </a:rPr>
              <a:t>Créé par Kofi Annan le 22 mars 2004</a:t>
            </a:r>
            <a:endParaRPr b="0" lang="en-US" sz="2800" spc="-1" strike="noStrike">
              <a:solidFill>
                <a:srgbClr val="000000"/>
              </a:solidFill>
              <a:latin typeface="TradeGothic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pour stimuler l’action des décideurs politiques en matière d’accès à l’eau potable et à l’assainissement</a:t>
            </a:r>
            <a:endParaRPr b="0" lang="en-US" sz="2800" spc="-1" strike="noStrike">
              <a:solidFill>
                <a:srgbClr val="000000"/>
              </a:solidFill>
              <a:latin typeface="TradeGothic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22 membres en provenance de tous les continents</a:t>
            </a:r>
            <a:endParaRPr b="0" lang="en-US" sz="28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3203640" y="6308640"/>
            <a:ext cx="302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www.unsgab.or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5" name="Picture 6" descr="UN logo blue"/>
          <p:cNvPicPr/>
          <p:nvPr/>
        </p:nvPicPr>
        <p:blipFill>
          <a:blip r:embed="rId1"/>
          <a:stretch/>
        </p:blipFill>
        <p:spPr>
          <a:xfrm>
            <a:off x="214200" y="714240"/>
            <a:ext cx="116064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radeGothic"/>
              </a:rPr>
              <a:t>Quels objectifs mondiaux?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610920" y="141264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cc"/>
                </a:solidFill>
                <a:latin typeface="TradeGothic"/>
              </a:rPr>
              <a:t>Eau potable</a:t>
            </a:r>
            <a:endParaRPr b="0" lang="en-US" sz="3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radeGothic"/>
              </a:rPr>
              <a:t>OMD 2015 pour sources améliorées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radeGothic"/>
              </a:rPr>
              <a:t>Après 2015 ? 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cc"/>
                </a:solidFill>
                <a:latin typeface="TradeGothic"/>
              </a:rPr>
              <a:t>Assainissement</a:t>
            </a:r>
            <a:endParaRPr b="0" lang="en-US" sz="3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radeGothic"/>
              </a:rPr>
              <a:t>OMD 2015 pour toilettes privatives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radeGothic"/>
              </a:rPr>
              <a:t>Après 2015:  toilettes + eaux usées?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16" name="Espace réservé du numéro de diapositive 3"/>
          <p:cNvSpPr/>
          <p:nvPr/>
        </p:nvSpPr>
        <p:spPr>
          <a:xfrm>
            <a:off x="7238880" y="6215040"/>
            <a:ext cx="1905120" cy="457200"/>
          </a:xfrm>
          <a:prstGeom prst="rect">
            <a:avLst/>
          </a:prstGeom>
          <a:solidFill>
            <a:srgbClr val="f9d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1BED-56BD-4949-917B-665E4A5E49AE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radeGothic"/>
              </a:rPr>
              <a:t>Des besoins qui justifient plus d’ambition</a:t>
            </a:r>
            <a:endParaRPr b="0" lang="en-US" sz="36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610920" y="1413000"/>
            <a:ext cx="78483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cc"/>
                </a:solidFill>
                <a:latin typeface="TradeGothic"/>
              </a:rPr>
              <a:t>Eau potable</a:t>
            </a:r>
            <a:endParaRPr b="0" lang="en-US" sz="3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radeGothic"/>
              </a:rPr>
              <a:t>Environ la moitié de la population mondiale utilise une eau de qualité douteuse. </a:t>
            </a:r>
            <a:endParaRPr b="0" lang="en-US" sz="3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radeGothic"/>
              </a:rPr>
              <a:t>Davantage de personnes ont leur droit à l’eau potable non satisfait</a:t>
            </a:r>
            <a:endParaRPr b="0" lang="en-US" sz="3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19" name="Rectangle 1"/>
          <p:cNvSpPr/>
          <p:nvPr/>
        </p:nvSpPr>
        <p:spPr>
          <a:xfrm>
            <a:off x="395280" y="6023520"/>
            <a:ext cx="777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radeGothic"/>
                <a:ea typeface="Calibri"/>
              </a:rPr>
              <a:t>Source: </a:t>
            </a:r>
            <a:r>
              <a:rPr b="1" i="1" lang="fr-FR" sz="1200" spc="-1" strike="noStrike">
                <a:solidFill>
                  <a:srgbClr val="000000"/>
                </a:solidFill>
                <a:latin typeface="TradeGothic"/>
                <a:ea typeface="Calibri"/>
              </a:rPr>
              <a:t>Les besoins en eau potable dans le monde sont sous-estimés :</a:t>
            </a:r>
            <a:r>
              <a:rPr b="0" i="1" lang="fr-FR" sz="1200" spc="-1" strike="noStrike">
                <a:solidFill>
                  <a:srgbClr val="000000"/>
                </a:solidFill>
                <a:latin typeface="TradeGothic"/>
                <a:ea typeface="Arial"/>
              </a:rPr>
              <a:t> </a:t>
            </a:r>
            <a:r>
              <a:rPr b="1" i="1" lang="fr-FR" sz="1200" spc="-1" strike="noStrike">
                <a:solidFill>
                  <a:srgbClr val="000000"/>
                </a:solidFill>
                <a:latin typeface="TradeGothic"/>
                <a:ea typeface="Calibri"/>
              </a:rPr>
              <a:t>des milliards de personnes sont concernées</a:t>
            </a:r>
            <a:r>
              <a:rPr b="0" i="1" lang="fr-FR" sz="1200" spc="-1" strike="noStrike">
                <a:solidFill>
                  <a:srgbClr val="000000"/>
                </a:solidFill>
                <a:latin typeface="TradeGothic"/>
                <a:ea typeface="Arial"/>
              </a:rPr>
              <a:t>, </a:t>
            </a:r>
            <a:r>
              <a:rPr b="0" lang="fr-FR" sz="1200" spc="-1" strike="noStrike">
                <a:solidFill>
                  <a:srgbClr val="000000"/>
                </a:solidFill>
                <a:latin typeface="TradeGothic"/>
                <a:ea typeface="Calibri"/>
              </a:rPr>
              <a:t>Gérard Payen, 2011 in </a:t>
            </a:r>
            <a:r>
              <a:rPr b="0" i="1" lang="fr-FR" sz="1200" spc="-1" strike="noStrike">
                <a:solidFill>
                  <a:srgbClr val="000000"/>
                </a:solidFill>
                <a:latin typeface="TradeGothic"/>
                <a:ea typeface="Arial"/>
              </a:rPr>
              <a:t>Le Droit à l’eau potable et à l’assainissement, sa mise en œuvre en Europe</a:t>
            </a:r>
            <a:r>
              <a:rPr b="0" lang="fr-FR" sz="1200" spc="-1" strike="noStrike">
                <a:solidFill>
                  <a:srgbClr val="000000"/>
                </a:solidFill>
                <a:latin typeface="TradeGothic"/>
                <a:ea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adeGothic"/>
              </a:rPr>
              <a:t>www.aquafed.org/pop_up_4billion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radeGothic"/>
              </a:rPr>
              <a:t>Des besoins qui justifient plus d’ambition</a:t>
            </a:r>
            <a:endParaRPr b="0" lang="en-US" sz="36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610920" y="141264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cc"/>
                </a:solidFill>
                <a:latin typeface="TradeGothic"/>
              </a:rPr>
              <a:t>Assainissement</a:t>
            </a:r>
            <a:endParaRPr b="0" lang="en-US" sz="3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radeGothic"/>
              </a:rPr>
              <a:t>Le nombre de personnes n’ayant pas accès à des toilettes privatives correctes ne baisse pas </a:t>
            </a:r>
            <a:endParaRPr b="0" lang="en-US" sz="3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radeGothic"/>
              </a:rPr>
              <a:t>Environ 80% des eaux usées par l’homme sont rejetées dans la nature sans dépollution</a:t>
            </a:r>
            <a:endParaRPr b="0" lang="en-US" sz="3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22" name="Espace réservé du numéro de diapositive 3"/>
          <p:cNvSpPr/>
          <p:nvPr/>
        </p:nvSpPr>
        <p:spPr>
          <a:xfrm>
            <a:off x="7238880" y="6215040"/>
            <a:ext cx="1905120" cy="457200"/>
          </a:xfrm>
          <a:prstGeom prst="rect">
            <a:avLst/>
          </a:prstGeom>
          <a:solidFill>
            <a:srgbClr val="f9d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EF23-0F5F-4054-BB13-774DEF80DE06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Espace réservé du numéro de diapositive 1"/>
          <p:cNvSpPr/>
          <p:nvPr/>
        </p:nvSpPr>
        <p:spPr>
          <a:xfrm>
            <a:off x="8639280" y="638172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4701-4567-448A-9146-74FEED6AACB9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Text Box 13"/>
          <p:cNvSpPr/>
          <p:nvPr/>
        </p:nvSpPr>
        <p:spPr>
          <a:xfrm>
            <a:off x="405000" y="652140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Photo G Pay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5" name="Picture 2" descr=""/>
          <p:cNvPicPr/>
          <p:nvPr/>
        </p:nvPicPr>
        <p:blipFill>
          <a:blip r:embed="rId1"/>
          <a:stretch/>
        </p:blipFill>
        <p:spPr>
          <a:xfrm>
            <a:off x="0" y="2406600"/>
            <a:ext cx="5931000" cy="445140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3" descr=""/>
          <p:cNvPicPr/>
          <p:nvPr/>
        </p:nvPicPr>
        <p:blipFill>
          <a:blip r:embed="rId2"/>
          <a:stretch/>
        </p:blipFill>
        <p:spPr>
          <a:xfrm rot="20911800">
            <a:off x="4834080" y="610920"/>
            <a:ext cx="3886200" cy="5919840"/>
          </a:xfrm>
          <a:prstGeom prst="rect">
            <a:avLst/>
          </a:prstGeom>
          <a:ln w="0">
            <a:noFill/>
          </a:ln>
        </p:spPr>
      </p:pic>
      <p:sp>
        <p:nvSpPr>
          <p:cNvPr id="727" name="ZoneTexte 3"/>
          <p:cNvSpPr/>
          <p:nvPr/>
        </p:nvSpPr>
        <p:spPr>
          <a:xfrm>
            <a:off x="755640" y="549360"/>
            <a:ext cx="328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Tahoma"/>
                <a:ea typeface="Tahoma"/>
              </a:rPr>
              <a:t>Merci pour votre atten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Espace réservé du numéro de diapositive 1"/>
          <p:cNvSpPr/>
          <p:nvPr/>
        </p:nvSpPr>
        <p:spPr>
          <a:xfrm>
            <a:off x="8639280" y="638172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F363-CE0E-4168-8337-C0D55E33253C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Text Box 13"/>
          <p:cNvSpPr/>
          <p:nvPr/>
        </p:nvSpPr>
        <p:spPr>
          <a:xfrm>
            <a:off x="405000" y="652140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Photo G Pay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ZoneTexte 3"/>
          <p:cNvSpPr/>
          <p:nvPr/>
        </p:nvSpPr>
        <p:spPr>
          <a:xfrm>
            <a:off x="2050920" y="2349360"/>
            <a:ext cx="482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  <a:ea typeface="Tahoma"/>
              </a:rPr>
              <a:t>www.unsgab.or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  <a:ea typeface="Tahoma"/>
              </a:rPr>
              <a:t>www.aquafed.or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132000" y="5516640"/>
            <a:ext cx="5400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radeGothic"/>
              </a:rPr>
              <a:t>Ban Ki-Moon, 22 mars 2011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marL="365040" indent="-365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47" name="Espace réservé du numéro de diapositive 3"/>
          <p:cNvSpPr/>
          <p:nvPr/>
        </p:nvSpPr>
        <p:spPr>
          <a:xfrm>
            <a:off x="7238880" y="6215040"/>
            <a:ext cx="1905120" cy="457200"/>
          </a:xfrm>
          <a:prstGeom prst="rect">
            <a:avLst/>
          </a:prstGeom>
          <a:solidFill>
            <a:srgbClr val="f9d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416C-6CAB-42D1-9290-7E58758AD141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ZoneTexte 4"/>
          <p:cNvSpPr/>
          <p:nvPr/>
        </p:nvSpPr>
        <p:spPr>
          <a:xfrm>
            <a:off x="0" y="0"/>
            <a:ext cx="914400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Rectangle 16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ahoma"/>
                <a:ea typeface="Tahoma"/>
              </a:rPr>
              <a:t>    </a:t>
            </a:r>
            <a:r>
              <a:rPr b="0" lang="fr-FR" sz="4000" spc="-1" strike="noStrike">
                <a:solidFill>
                  <a:srgbClr val="cc0000"/>
                </a:solidFill>
                <a:latin typeface="Tahoma"/>
                <a:ea typeface="Tahoma"/>
              </a:rPr>
              <a:t>« L’Eau pour les Villes 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0000"/>
                </a:solidFill>
                <a:latin typeface="Tahoma"/>
                <a:ea typeface="Tahoma"/>
              </a:rPr>
              <a:t>Thème de la Journée mondiale de l’Eau 20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Rectangle à coins arrondis 7"/>
          <p:cNvSpPr/>
          <p:nvPr/>
        </p:nvSpPr>
        <p:spPr>
          <a:xfrm>
            <a:off x="611280" y="2060640"/>
            <a:ext cx="7848360" cy="33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65040" indent="-36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« La crise de l’eau qui touche 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zones urbaines tient davantag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     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- à des problèmes de gouvernance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     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- à l’insuffisance des politiques e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     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- à la mauvaise ges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qu’à des problèmes de pénurie. 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radeGothic"/>
              </a:rPr>
              <a:t>Le Droit à l’eau pour les citadins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755640" y="2565000"/>
            <a:ext cx="75614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1800"/>
              </a:spcBef>
              <a:buClr>
                <a:srgbClr val="7f7f7f"/>
              </a:buClr>
              <a:buFont typeface="Trade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7f7f7f"/>
                </a:solidFill>
                <a:latin typeface="TradeGothic"/>
              </a:rPr>
              <a:t>Dynamiques urbaines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marL="504000" indent="-504000">
              <a:spcBef>
                <a:spcPts val="1800"/>
              </a:spcBef>
              <a:buClr>
                <a:srgbClr val="7f7f7f"/>
              </a:buClr>
              <a:buFont typeface="Trade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7f7f7f"/>
                </a:solidFill>
                <a:latin typeface="TradeGothic"/>
              </a:rPr>
              <a:t>Développement de l’accès à l’eau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marL="504000" indent="-504000">
              <a:spcBef>
                <a:spcPts val="1800"/>
              </a:spcBef>
              <a:buClr>
                <a:srgbClr val="7f7f7f"/>
              </a:buClr>
              <a:buFont typeface="Trade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7f7f7f"/>
                </a:solidFill>
                <a:latin typeface="TradeGothic"/>
              </a:rPr>
              <a:t>Le nouveau Droit de l’Homme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marL="504000" indent="-504000">
              <a:spcBef>
                <a:spcPts val="1800"/>
              </a:spcBef>
              <a:buClr>
                <a:srgbClr val="7f7f7f"/>
              </a:buClr>
              <a:buFont typeface="Trade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7f7f7f"/>
                </a:solidFill>
                <a:latin typeface="TradeGothic"/>
              </a:rPr>
              <a:t>Vers des politiques plus ambitieuses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53" name="Espace réservé du numéro de diapositive 3"/>
          <p:cNvSpPr/>
          <p:nvPr/>
        </p:nvSpPr>
        <p:spPr>
          <a:xfrm>
            <a:off x="7238880" y="6215040"/>
            <a:ext cx="1905120" cy="457200"/>
          </a:xfrm>
          <a:prstGeom prst="rect">
            <a:avLst/>
          </a:prstGeom>
          <a:solidFill>
            <a:srgbClr val="f9d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C1EE-92A1-4A4B-8A2C-9DC92972A52D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Rectangle à coins arrondis 4"/>
          <p:cNvSpPr/>
          <p:nvPr/>
        </p:nvSpPr>
        <p:spPr>
          <a:xfrm>
            <a:off x="250920" y="2565360"/>
            <a:ext cx="828180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radeGothic"/>
                <a:ea typeface="Arial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TradeGothic"/>
                <a:ea typeface="Arial"/>
              </a:rPr>
              <a:t>1.  Dynamiques urba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Espace réservé du numéro de diapositive 1"/>
          <p:cNvSpPr/>
          <p:nvPr/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D0AB-E40A-48D0-96B6-CC1EB90122AF}" type="slidenum">
              <a:rPr b="0" lang="pt-B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tretch/>
        </p:blipFill>
        <p:spPr>
          <a:xfrm>
            <a:off x="5459400" y="1800360"/>
            <a:ext cx="3684600" cy="50576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2" descr=""/>
          <p:cNvPicPr/>
          <p:nvPr/>
        </p:nvPicPr>
        <p:blipFill>
          <a:blip r:embed="rId2"/>
          <a:stretch/>
        </p:blipFill>
        <p:spPr>
          <a:xfrm>
            <a:off x="0" y="773280"/>
            <a:ext cx="5483160" cy="608472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à coins arrondis 5"/>
          <p:cNvSpPr/>
          <p:nvPr/>
        </p:nvSpPr>
        <p:spPr>
          <a:xfrm>
            <a:off x="0" y="0"/>
            <a:ext cx="9144000" cy="1844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Tahoma"/>
                <a:ea typeface="Tahoma"/>
              </a:rPr>
              <a:t>dans les pays en développ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0000"/>
                </a:solidFill>
                <a:latin typeface="Tahoma"/>
                <a:ea typeface="Tahoma"/>
              </a:rPr>
              <a:t>33% </a:t>
            </a:r>
            <a:r>
              <a:rPr b="0" lang="fr-FR" sz="2800" spc="-1" strike="noStrike">
                <a:solidFill>
                  <a:srgbClr val="000066"/>
                </a:solidFill>
                <a:latin typeface="Tahoma"/>
                <a:ea typeface="Tahoma"/>
              </a:rPr>
              <a:t>des citadins habitent des bidonvil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Tahoma"/>
                <a:ea typeface="Tahoma"/>
              </a:rPr>
              <a:t>	</a:t>
            </a:r>
            <a:r>
              <a:rPr b="0" lang="fr-FR" sz="2800" spc="-1" strike="noStrike">
                <a:solidFill>
                  <a:srgbClr val="000066"/>
                </a:solidFill>
                <a:latin typeface="Tahoma"/>
                <a:ea typeface="Tahoma"/>
              </a:rPr>
              <a:t>	</a:t>
            </a:r>
            <a:r>
              <a:rPr b="0" lang="fr-FR" sz="2800" spc="-1" strike="noStrike">
                <a:solidFill>
                  <a:srgbClr val="000066"/>
                </a:solidFill>
                <a:latin typeface="Tahoma"/>
                <a:ea typeface="Tahoma"/>
              </a:rPr>
              <a:t>	</a:t>
            </a:r>
            <a:r>
              <a:rPr b="0" lang="fr-FR" sz="2800" spc="-1" strike="noStrike">
                <a:solidFill>
                  <a:srgbClr val="000066"/>
                </a:solidFill>
                <a:latin typeface="Tahoma"/>
                <a:ea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ZoneTexte 11"/>
          <p:cNvSpPr/>
          <p:nvPr/>
        </p:nvSpPr>
        <p:spPr>
          <a:xfrm>
            <a:off x="122760" y="6143760"/>
            <a:ext cx="31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Tahoma"/>
                <a:ea typeface="Tahoma"/>
              </a:rPr>
              <a:t>Photo UN-Habit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0" name="Groupe 8"/>
          <p:cNvGrpSpPr/>
          <p:nvPr/>
        </p:nvGrpSpPr>
        <p:grpSpPr>
          <a:xfrm>
            <a:off x="1619280" y="1197000"/>
            <a:ext cx="6854400" cy="581400"/>
            <a:chOff x="1619280" y="1197000"/>
            <a:chExt cx="6854400" cy="581400"/>
          </a:xfrm>
        </p:grpSpPr>
        <p:sp>
          <p:nvSpPr>
            <p:cNvPr id="561" name="Flèche droite 6"/>
            <p:cNvSpPr/>
            <p:nvPr/>
          </p:nvSpPr>
          <p:spPr>
            <a:xfrm>
              <a:off x="1619280" y="1340640"/>
              <a:ext cx="1728000" cy="287640"/>
            </a:xfrm>
            <a:prstGeom prst="rightArrow">
              <a:avLst>
                <a:gd name="adj1" fmla="val 50000"/>
                <a:gd name="adj2" fmla="val 50063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ZoneTexte 7"/>
            <p:cNvSpPr/>
            <p:nvPr/>
          </p:nvSpPr>
          <p:spPr>
            <a:xfrm>
              <a:off x="3285000" y="1197000"/>
              <a:ext cx="518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ff6600"/>
                  </a:solidFill>
                  <a:latin typeface="TradeGothic"/>
                </a:rPr>
                <a:t>Leur nombre est croissa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66320" cy="6864480"/>
          </a:xfrm>
          <a:prstGeom prst="rect">
            <a:avLst/>
          </a:prstGeom>
          <a:ln w="0">
            <a:noFill/>
          </a:ln>
        </p:spPr>
      </p:pic>
      <p:sp>
        <p:nvSpPr>
          <p:cNvPr id="564" name="Espace réservé du numéro de diapositive 3"/>
          <p:cNvSpPr/>
          <p:nvPr/>
        </p:nvSpPr>
        <p:spPr>
          <a:xfrm>
            <a:off x="324000" y="6165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6EA7-EB96-4318-9623-54567E05A250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5" name="Groupe 8" descr=""/>
          <p:cNvPicPr/>
          <p:nvPr/>
        </p:nvPicPr>
        <p:blipFill>
          <a:blip r:embed="rId2"/>
          <a:stretch/>
        </p:blipFill>
        <p:spPr>
          <a:xfrm>
            <a:off x="738360" y="1036800"/>
            <a:ext cx="5394240" cy="2035080"/>
          </a:xfrm>
          <a:prstGeom prst="rect">
            <a:avLst/>
          </a:prstGeom>
          <a:ln w="0">
            <a:noFill/>
          </a:ln>
        </p:spPr>
      </p:pic>
      <p:sp>
        <p:nvSpPr>
          <p:cNvPr id="566" name="ZoneTexte 11"/>
          <p:cNvSpPr/>
          <p:nvPr/>
        </p:nvSpPr>
        <p:spPr>
          <a:xfrm>
            <a:off x="-500760" y="6143760"/>
            <a:ext cx="39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Tahoma"/>
                <a:ea typeface="Tahoma"/>
              </a:rPr>
              <a:t>Photo UN-Habit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Espace réservé du numéro de diapositive 3"/>
          <p:cNvSpPr/>
          <p:nvPr/>
        </p:nvSpPr>
        <p:spPr>
          <a:xfrm>
            <a:off x="324000" y="6165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14E1-9F7F-4DBF-82F9-19CABBBFE46C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8" name="Picture 2" descr="C:\Documents and Settings\gpayen\Mes documents\Mes images\AqF\untitled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16"/>
          <p:cNvSpPr/>
          <p:nvPr/>
        </p:nvSpPr>
        <p:spPr>
          <a:xfrm>
            <a:off x="714240" y="1571760"/>
            <a:ext cx="5572440" cy="11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ahoma"/>
                <a:ea typeface="Tahoma"/>
              </a:rPr>
              <a:t>Prévisions de popul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  <a:ea typeface="Tahoma"/>
              </a:rPr>
              <a:t>World Urbanization Prospects, the 2009 Re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  <a:ea typeface="Tahoma"/>
              </a:rPr>
              <a:t>ON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500040" y="0"/>
            <a:ext cx="121464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  <a:ea typeface="Tahoma"/>
              </a:rPr>
              <a:t>mill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Ellipse 9"/>
          <p:cNvSpPr/>
          <p:nvPr/>
        </p:nvSpPr>
        <p:spPr>
          <a:xfrm rot="19086000">
            <a:off x="4917960" y="1495080"/>
            <a:ext cx="4846680" cy="966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13" descr=""/>
          <p:cNvPicPr/>
          <p:nvPr/>
        </p:nvPicPr>
        <p:blipFill>
          <a:blip r:embed="rId1"/>
          <a:stretch/>
        </p:blipFill>
        <p:spPr>
          <a:xfrm>
            <a:off x="0" y="-58680"/>
            <a:ext cx="9229680" cy="6916680"/>
          </a:xfrm>
          <a:prstGeom prst="rect">
            <a:avLst/>
          </a:prstGeom>
          <a:ln w="0">
            <a:noFill/>
          </a:ln>
        </p:spPr>
      </p:pic>
      <p:grpSp>
        <p:nvGrpSpPr>
          <p:cNvPr id="573" name="Groupe 13"/>
          <p:cNvGrpSpPr/>
          <p:nvPr/>
        </p:nvGrpSpPr>
        <p:grpSpPr>
          <a:xfrm>
            <a:off x="468360" y="1556640"/>
            <a:ext cx="4032360" cy="4320000"/>
            <a:chOff x="468360" y="1556640"/>
            <a:chExt cx="4032360" cy="4320000"/>
          </a:xfrm>
        </p:grpSpPr>
        <p:sp>
          <p:nvSpPr>
            <p:cNvPr id="574" name="Rectangle à coins arrondis 2"/>
            <p:cNvSpPr/>
            <p:nvPr/>
          </p:nvSpPr>
          <p:spPr>
            <a:xfrm>
              <a:off x="468360" y="3141000"/>
              <a:ext cx="2880360" cy="108000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éveloppement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planifié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75" name="Connecteur droit avec flèche 5"/>
            <p:cNvCxnSpPr/>
            <p:nvPr/>
          </p:nvCxnSpPr>
          <p:spPr>
            <a:xfrm flipH="1" flipV="1">
              <a:off x="972360" y="1556640"/>
              <a:ext cx="504360" cy="1584360"/>
            </a:xfrm>
            <a:prstGeom prst="straightConnector1">
              <a:avLst/>
            </a:prstGeom>
            <a:ln w="38160">
              <a:solidFill>
                <a:srgbClr val="92d050"/>
              </a:solidFill>
              <a:miter/>
              <a:tailEnd len="med" type="arrow" w="med"/>
            </a:ln>
          </p:spPr>
        </p:cxnSp>
        <p:cxnSp>
          <p:nvCxnSpPr>
            <p:cNvPr id="576" name="Connecteur droit avec flèche 6"/>
            <p:cNvCxnSpPr/>
            <p:nvPr/>
          </p:nvCxnSpPr>
          <p:spPr>
            <a:xfrm>
              <a:off x="2196000" y="4220640"/>
              <a:ext cx="2305080" cy="1656360"/>
            </a:xfrm>
            <a:prstGeom prst="straightConnector1">
              <a:avLst/>
            </a:prstGeom>
            <a:ln w="38160">
              <a:solidFill>
                <a:srgbClr val="92d050"/>
              </a:solidFill>
              <a:miter/>
              <a:tailEnd len="med" type="arrow" w="med"/>
            </a:ln>
          </p:spPr>
        </p:cxnSp>
      </p:grpSp>
      <p:grpSp>
        <p:nvGrpSpPr>
          <p:cNvPr id="577" name="Groupe 16"/>
          <p:cNvGrpSpPr/>
          <p:nvPr/>
        </p:nvGrpSpPr>
        <p:grpSpPr>
          <a:xfrm>
            <a:off x="4066920" y="1413000"/>
            <a:ext cx="4321440" cy="3095640"/>
            <a:chOff x="4066920" y="1413000"/>
            <a:chExt cx="4321440" cy="3095640"/>
          </a:xfrm>
        </p:grpSpPr>
        <p:grpSp>
          <p:nvGrpSpPr>
            <p:cNvPr id="578" name="Groupe 15"/>
            <p:cNvGrpSpPr/>
            <p:nvPr/>
          </p:nvGrpSpPr>
          <p:grpSpPr>
            <a:xfrm>
              <a:off x="5434920" y="1413000"/>
              <a:ext cx="2953440" cy="3095640"/>
              <a:chOff x="5434920" y="1413000"/>
              <a:chExt cx="2953440" cy="3095640"/>
            </a:xfrm>
          </p:grpSpPr>
          <p:sp>
            <p:nvSpPr>
              <p:cNvPr id="579" name="Rectangle à coins arrondis 3"/>
              <p:cNvSpPr/>
              <p:nvPr/>
            </p:nvSpPr>
            <p:spPr>
              <a:xfrm>
                <a:off x="5434920" y="1413000"/>
                <a:ext cx="2882160" cy="1079280"/>
              </a:xfrm>
              <a:prstGeom prst="roundRect">
                <a:avLst>
                  <a:gd name="adj" fmla="val 16667"/>
                </a:avLst>
              </a:prstGeom>
              <a:solidFill>
                <a:srgbClr val="5c5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Développement 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non planifié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580" name="Connecteur droit avec flèche 9"/>
              <p:cNvCxnSpPr/>
              <p:nvPr/>
            </p:nvCxnSpPr>
            <p:spPr>
              <a:xfrm>
                <a:off x="6659280" y="2491920"/>
                <a:ext cx="1153440" cy="2017080"/>
              </a:xfrm>
              <a:prstGeom prst="straightConnector1">
                <a:avLst/>
              </a:prstGeom>
              <a:ln w="38160">
                <a:solidFill>
                  <a:srgbClr val="0a0aff"/>
                </a:solidFill>
                <a:miter/>
                <a:tailEnd len="med" type="arrow" w="med"/>
              </a:ln>
            </p:spPr>
          </p:cxnSp>
          <p:cxnSp>
            <p:nvCxnSpPr>
              <p:cNvPr id="581" name="Connecteur droit avec flèche 11"/>
              <p:cNvCxnSpPr/>
              <p:nvPr/>
            </p:nvCxnSpPr>
            <p:spPr>
              <a:xfrm>
                <a:off x="6947640" y="2491920"/>
                <a:ext cx="1441080" cy="361080"/>
              </a:xfrm>
              <a:prstGeom prst="straightConnector1">
                <a:avLst/>
              </a:prstGeom>
              <a:ln w="38160">
                <a:solidFill>
                  <a:srgbClr val="0a0aff"/>
                </a:solidFill>
                <a:miter/>
                <a:tailEnd len="med" type="arrow" w="med"/>
              </a:ln>
            </p:spPr>
          </p:cxnSp>
        </p:grpSp>
        <p:cxnSp>
          <p:nvCxnSpPr>
            <p:cNvPr id="582" name="Connecteur droit avec flèche 12"/>
            <p:cNvCxnSpPr/>
            <p:nvPr/>
          </p:nvCxnSpPr>
          <p:spPr>
            <a:xfrm flipH="1">
              <a:off x="4066920" y="2492280"/>
              <a:ext cx="2305440" cy="1874160"/>
            </a:xfrm>
            <a:prstGeom prst="straightConnector1">
              <a:avLst/>
            </a:prstGeom>
            <a:ln w="38160">
              <a:solidFill>
                <a:srgbClr val="0a0aff"/>
              </a:solidFill>
              <a:miter/>
              <a:tailEnd len="med" type="arrow" w="med"/>
            </a:ln>
          </p:spPr>
        </p:cxnSp>
      </p:grpSp>
      <p:sp>
        <p:nvSpPr>
          <p:cNvPr id="583" name="Espace réservé du numéro de diapositive 3"/>
          <p:cNvSpPr/>
          <p:nvPr/>
        </p:nvSpPr>
        <p:spPr>
          <a:xfrm>
            <a:off x="179280" y="6237360"/>
            <a:ext cx="1438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G.Payen    </a:t>
            </a:r>
            <a:fld id="{33CAEE36-52DA-4E15-A833-5A74A5B4EB96}" type="slidenum">
              <a:rPr b="0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Espace réservé du numéro de diapositiv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0C63-85C7-47E3-8939-141319D8FF42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Line 2"/>
          <p:cNvSpPr/>
          <p:nvPr/>
        </p:nvSpPr>
        <p:spPr>
          <a:xfrm>
            <a:off x="3276720" y="3429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6" name="Picture 4" descr=""/>
          <p:cNvPicPr/>
          <p:nvPr/>
        </p:nvPicPr>
        <p:blipFill>
          <a:blip r:embed="rId1"/>
          <a:stretch/>
        </p:blipFill>
        <p:spPr>
          <a:xfrm>
            <a:off x="0" y="928800"/>
            <a:ext cx="7905600" cy="592920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5"/>
          <p:cNvSpPr/>
          <p:nvPr/>
        </p:nvSpPr>
        <p:spPr>
          <a:xfrm>
            <a:off x="-1440" y="646128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Source: G.Pay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33cc"/>
                </a:solidFill>
                <a:latin typeface="TradeGothic"/>
              </a:rPr>
              <a:t>2. Développement de l’Accès </a:t>
            </a:r>
            <a:br>
              <a:rPr sz="4000"/>
            </a:br>
            <a:r>
              <a:rPr b="1" lang="fr-FR" sz="4000" spc="-1" strike="noStrike">
                <a:solidFill>
                  <a:srgbClr val="0033cc"/>
                </a:solidFill>
                <a:latin typeface="TradeGothic"/>
              </a:rPr>
              <a:t> à l’eau potable et à l’assainissemen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89" name="Espace réservé du numéro de diapositive 5"/>
          <p:cNvSpPr/>
          <p:nvPr/>
        </p:nvSpPr>
        <p:spPr>
          <a:xfrm>
            <a:off x="8386920" y="6492960"/>
            <a:ext cx="757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6F8F-DFFC-435D-B154-E5A2FE38CCC7}" type="slidenum">
              <a:rPr b="0" lang="fr-FR" sz="1400" spc="-1" strike="noStrike">
                <a:solidFill>
                  <a:srgbClr val="000066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5T13:37:23Z</dcterms:created>
  <dc:creator>Payen</dc:creator>
  <dc:description/>
  <cp:keywords>Urban challenges défis urbains urgence urbaine Aquafed UNSGAB ban ki-moon</cp:keywords>
  <dc:language>en-US</dc:language>
  <cp:lastModifiedBy>gerard payen</cp:lastModifiedBy>
  <dcterms:modified xsi:type="dcterms:W3CDTF">2012-01-18T19:19:17Z</dcterms:modified>
  <cp:revision>549</cp:revision>
  <dc:subject/>
  <dc:title>Droit à l'eau en ville</dc:title>
</cp:coreProperties>
</file>